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EF85-441C-4EF7-B63D-8C06812F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A89-4348-414A-99EB-89A949A1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0B3-024E-46D9-84EE-9947DF2C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4164-A0C9-46BB-8C5F-BE33F1EE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1C31-828F-4C48-9063-02F9C919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D35-E66F-4934-A422-CFD37685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759A-C8EF-46F0-B3FA-09F87CC9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9A4-0F1E-42E1-97F7-37DEAF96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B20-D6E6-4817-B311-1CE0E15C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C153-8778-4545-8E87-3FC3019F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E3A-EC18-4E82-9467-14AA6767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214E-9A2C-4D66-97A9-3BA92FD2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DD32-CC70-483A-A10D-AAB5C4206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1123920"/>
          <a:ext cx="8926560" cy="45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3920"/>
                    <a:ext cx="89265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244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24480" y="2590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4480" y="297180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24480" y="3352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endCxn id="264" idx="0"/>
          </p:cNvCxnSpPr>
          <p:nvPr/>
        </p:nvCxnSpPr>
        <p:spPr>
          <a:xfrm>
            <a:off x="6629040" y="1980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64" idx="2"/>
            <a:endCxn id="265" idx="0"/>
          </p:cNvCxnSpPr>
          <p:nvPr/>
        </p:nvCxnSpPr>
        <p:spPr>
          <a:xfrm>
            <a:off x="662904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6629040" y="2819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66" idx="2"/>
            <a:endCxn id="267" idx="0"/>
          </p:cNvCxnSpPr>
          <p:nvPr/>
        </p:nvCxnSpPr>
        <p:spPr>
          <a:xfrm>
            <a:off x="6629040" y="3200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67" idx="2"/>
          </p:cNvCxnSpPr>
          <p:nvPr/>
        </p:nvCxnSpPr>
        <p:spPr>
          <a:xfrm>
            <a:off x="6629040" y="35812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914400" y="2133720"/>
            <a:ext cx="44197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“i = “ &lt;&lt;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2590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24480" y="29718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335268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endCxn id="275" idx="0"/>
          </p:cNvCxnSpPr>
          <p:nvPr/>
        </p:nvCxnSpPr>
        <p:spPr>
          <a:xfrm>
            <a:off x="6629040" y="1980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5" idx="2"/>
            <a:endCxn id="276" idx="0"/>
          </p:cNvCxnSpPr>
          <p:nvPr/>
        </p:nvCxnSpPr>
        <p:spPr>
          <a:xfrm>
            <a:off x="662904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6" idx="2"/>
            <a:endCxn id="277" idx="0"/>
          </p:cNvCxnSpPr>
          <p:nvPr/>
        </p:nvCxnSpPr>
        <p:spPr>
          <a:xfrm>
            <a:off x="6629040" y="2819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7" idx="2"/>
            <a:endCxn id="278" idx="0"/>
          </p:cNvCxnSpPr>
          <p:nvPr/>
        </p:nvCxnSpPr>
        <p:spPr>
          <a:xfrm>
            <a:off x="6629040" y="3200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8" idx="2"/>
          </p:cNvCxnSpPr>
          <p:nvPr/>
        </p:nvCxnSpPr>
        <p:spPr>
          <a:xfrm>
            <a:off x="6629040" y="35812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914400" y="2133720"/>
            <a:ext cx="44197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“i = “ &lt;&lt;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23623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5880" y="3733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endCxn id="286" idx="0"/>
          </p:cNvCxnSpPr>
          <p:nvPr/>
        </p:nvCxnSpPr>
        <p:spPr>
          <a:xfrm>
            <a:off x="640044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6" idx="2"/>
          </p:cNvCxnSpPr>
          <p:nvPr/>
        </p:nvCxnSpPr>
        <p:spPr>
          <a:xfrm>
            <a:off x="6400440" y="259056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endCxn id="287" idx="0"/>
          </p:cNvCxnSpPr>
          <p:nvPr/>
        </p:nvCxnSpPr>
        <p:spPr>
          <a:xfrm>
            <a:off x="6400440" y="3581280"/>
            <a:ext cx="1080" cy="1533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7" idx="2"/>
          </p:cNvCxnSpPr>
          <p:nvPr/>
        </p:nvCxnSpPr>
        <p:spPr>
          <a:xfrm>
            <a:off x="6400440" y="39625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6095880" y="27432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0" y="312408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3124080"/>
            <a:ext cx="60984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92" idx="3"/>
            <a:endCxn id="293" idx="0"/>
          </p:cNvCxnSpPr>
          <p:nvPr/>
        </p:nvCxnSpPr>
        <p:spPr>
          <a:xfrm>
            <a:off x="6705720" y="289512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92" idx="1"/>
            <a:endCxn id="294" idx="0"/>
          </p:cNvCxnSpPr>
          <p:nvPr/>
        </p:nvCxnSpPr>
        <p:spPr>
          <a:xfrm flipV="1" rot="10800000">
            <a:off x="5714280" y="289440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4" idx="2"/>
            <a:endCxn id="287" idx="0"/>
          </p:cNvCxnSpPr>
          <p:nvPr/>
        </p:nvCxnSpPr>
        <p:spPr>
          <a:xfrm flipH="1" rot="16200000">
            <a:off x="5866200" y="3200040"/>
            <a:ext cx="38196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93" idx="2"/>
            <a:endCxn id="287" idx="0"/>
          </p:cNvCxnSpPr>
          <p:nvPr/>
        </p:nvCxnSpPr>
        <p:spPr>
          <a:xfrm rot="5400000">
            <a:off x="6590520" y="3161880"/>
            <a:ext cx="3819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416920" y="25909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endCxn id="30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303" idx="2"/>
            <a:endCxn id="30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0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0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"/>
          <p:cNvCxnSpPr>
            <a:stCxn id="307" idx="3"/>
            <a:endCxn id="31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10" idx="2"/>
            <a:endCxn id="30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07" idx="2"/>
            <a:endCxn id="31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1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3" idx="2"/>
            <a:endCxn id="32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2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27" idx="3"/>
            <a:endCxn id="33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30" idx="2"/>
            <a:endCxn id="32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3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27" idx="2"/>
            <a:endCxn id="33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endCxn id="34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46" name=""/>
          <p:cNvCxnSpPr>
            <a:stCxn id="343" idx="2"/>
            <a:endCxn id="34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4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7" idx="3"/>
            <a:endCxn id="35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50" idx="2"/>
            <a:endCxn id="34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5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f (imaginary &lt; 0)</a:t>
            </a: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47" idx="2"/>
            <a:endCxn id="35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5" name=""/>
          <p:cNvCxnSpPr>
            <a:endCxn id="36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66" name=""/>
          <p:cNvCxnSpPr>
            <a:stCxn id="363" idx="2"/>
            <a:endCxn id="36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6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67" idx="3"/>
            <a:endCxn id="37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370" idx="2"/>
            <a:endCxn id="36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67" idx="2"/>
            <a:endCxn id="37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7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endCxn id="38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stCxn id="383" idx="2"/>
            <a:endCxn id="38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8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89" name=""/>
          <p:cNvCxnSpPr>
            <a:stCxn id="38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2" name=""/>
          <p:cNvCxnSpPr>
            <a:stCxn id="387" idx="3"/>
            <a:endCxn id="39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93" name=""/>
          <p:cNvCxnSpPr>
            <a:stCxn id="390" idx="2"/>
            <a:endCxn id="38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87" idx="2"/>
            <a:endCxn id="39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endCxn id="40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403" idx="2"/>
            <a:endCxn id="40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0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40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2" name=""/>
          <p:cNvCxnSpPr>
            <a:stCxn id="407" idx="3"/>
            <a:endCxn id="41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10" idx="2"/>
            <a:endCxn id="40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41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407" idx="2"/>
            <a:endCxn id="41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41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endCxn id="42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23" idx="2"/>
            <a:endCxn id="42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2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27" idx="3"/>
            <a:endCxn id="43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30" idx="2"/>
            <a:endCxn id="42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43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f (imaginary &lt; 0)</a:t>
            </a: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27" idx="2"/>
            <a:endCxn id="43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400800" y="8380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ccept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77120" y="152280"/>
            <a:ext cx="990360" cy="3812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pply t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2819520"/>
            <a:ext cx="8384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1600200"/>
            <a:ext cx="106668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cholarshi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73392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Pas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365760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Ke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cholarshi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365760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Fami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ympathetic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43434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51814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H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enough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91440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 =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48006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 = i +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47242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Credi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to gra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5" idx="2"/>
            <a:endCxn id="47" idx="0"/>
          </p:cNvCxnSpPr>
          <p:nvPr/>
        </p:nvCxnSpPr>
        <p:spPr>
          <a:xfrm>
            <a:off x="4000320" y="3352320"/>
            <a:ext cx="1080" cy="3819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7" idx="2"/>
            <a:endCxn id="54" idx="0"/>
          </p:cNvCxnSpPr>
          <p:nvPr/>
        </p:nvCxnSpPr>
        <p:spPr>
          <a:xfrm>
            <a:off x="4000320" y="4343400"/>
            <a:ext cx="1080" cy="3816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4" idx="3"/>
            <a:endCxn id="53" idx="1"/>
          </p:cNvCxnSpPr>
          <p:nvPr/>
        </p:nvCxnSpPr>
        <p:spPr>
          <a:xfrm>
            <a:off x="4571640" y="5029200"/>
            <a:ext cx="686520" cy="388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3" idx="0"/>
            <a:endCxn id="48" idx="2"/>
          </p:cNvCxnSpPr>
          <p:nvPr/>
        </p:nvCxnSpPr>
        <p:spPr>
          <a:xfrm flipV="1">
            <a:off x="5676480" y="426672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172200" y="3962520"/>
            <a:ext cx="6858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48" idx="0"/>
          </p:cNvCxnSpPr>
          <p:nvPr/>
        </p:nvCxnSpPr>
        <p:spPr>
          <a:xfrm flipH="1" flipV="1">
            <a:off x="5638320" y="2513880"/>
            <a:ext cx="38880" cy="11437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934320" y="48006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601992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G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enough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56386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Real 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Offer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9" idx="2"/>
            <a:endCxn id="61" idx="0"/>
          </p:cNvCxnSpPr>
          <p:nvPr/>
        </p:nvCxnSpPr>
        <p:spPr>
          <a:xfrm>
            <a:off x="7353000" y="426708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1" idx="2"/>
            <a:endCxn id="62" idx="3"/>
          </p:cNvCxnSpPr>
          <p:nvPr/>
        </p:nvCxnSpPr>
        <p:spPr>
          <a:xfrm rot="5400000">
            <a:off x="4476240" y="3447720"/>
            <a:ext cx="991080" cy="476316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2" idx="2"/>
            <a:endCxn id="67" idx="0"/>
          </p:cNvCxnSpPr>
          <p:nvPr/>
        </p:nvCxnSpPr>
        <p:spPr>
          <a:xfrm flipH="1" flipV="1" rot="5400000">
            <a:off x="-724320" y="3428640"/>
            <a:ext cx="5944320" cy="457920"/>
          </a:xfrm>
          <a:prstGeom prst="bentConnector5">
            <a:avLst>
              <a:gd name="adj1" fmla="val -2240"/>
              <a:gd name="adj2" fmla="val -297167"/>
              <a:gd name="adj3" fmla="val 103845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1981080" y="685800"/>
            <a:ext cx="990720" cy="4572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reapply t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12952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ccept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05120"/>
            <a:ext cx="8384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8" idx="3"/>
            <a:endCxn id="69" idx="0"/>
          </p:cNvCxnSpPr>
          <p:nvPr/>
        </p:nvCxnSpPr>
        <p:spPr>
          <a:xfrm>
            <a:off x="3048120" y="1599840"/>
            <a:ext cx="953280" cy="3056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8" idx="2"/>
          </p:cNvCxnSpPr>
          <p:nvPr/>
        </p:nvCxnSpPr>
        <p:spPr>
          <a:xfrm rot="5400000">
            <a:off x="1009080" y="2876400"/>
            <a:ext cx="2439000" cy="49608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47" idx="1"/>
          </p:cNvCxnSpPr>
          <p:nvPr/>
        </p:nvCxnSpPr>
        <p:spPr>
          <a:xfrm flipH="1">
            <a:off x="1980720" y="4038120"/>
            <a:ext cx="144864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0" idx="2"/>
            <a:endCxn id="51" idx="0"/>
          </p:cNvCxnSpPr>
          <p:nvPr/>
        </p:nvCxnSpPr>
        <p:spPr>
          <a:xfrm>
            <a:off x="2018880" y="48769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1" idx="2"/>
            <a:endCxn id="62" idx="0"/>
          </p:cNvCxnSpPr>
          <p:nvPr/>
        </p:nvCxnSpPr>
        <p:spPr>
          <a:xfrm>
            <a:off x="2018880" y="57909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1"/>
          </p:cNvCxnSpPr>
          <p:nvPr/>
        </p:nvCxnSpPr>
        <p:spPr>
          <a:xfrm rot="10800000">
            <a:off x="2818800" y="4037760"/>
            <a:ext cx="610200" cy="19058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54" idx="2"/>
            <a:endCxn id="63" idx="0"/>
          </p:cNvCxnSpPr>
          <p:nvPr/>
        </p:nvCxnSpPr>
        <p:spPr>
          <a:xfrm>
            <a:off x="4000320" y="53341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7924680" y="6172200"/>
            <a:ext cx="990720" cy="45720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40 years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ortgages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car lo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63" idx="3"/>
            <a:endCxn id="77" idx="0"/>
          </p:cNvCxnSpPr>
          <p:nvPr/>
        </p:nvCxnSpPr>
        <p:spPr>
          <a:xfrm>
            <a:off x="4571640" y="5943240"/>
            <a:ext cx="384876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9" idx="2"/>
            <a:endCxn id="45" idx="0"/>
          </p:cNvCxnSpPr>
          <p:nvPr/>
        </p:nvCxnSpPr>
        <p:spPr>
          <a:xfrm>
            <a:off x="4000320" y="228600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49" idx="0"/>
          </p:cNvCxnSpPr>
          <p:nvPr/>
        </p:nvCxnSpPr>
        <p:spPr>
          <a:xfrm flipV="1" rot="16200000">
            <a:off x="5123880" y="1427760"/>
            <a:ext cx="1143720" cy="331560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44" idx="2"/>
            <a:endCxn id="43" idx="0"/>
          </p:cNvCxnSpPr>
          <p:nvPr/>
        </p:nvCxnSpPr>
        <p:spPr>
          <a:xfrm>
            <a:off x="6972120" y="5335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43" idx="1"/>
            <a:endCxn id="52" idx="3"/>
          </p:cNvCxnSpPr>
          <p:nvPr/>
        </p:nvCxnSpPr>
        <p:spPr>
          <a:xfrm flipH="1">
            <a:off x="5790600" y="1142640"/>
            <a:ext cx="61020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924680" y="2133720"/>
            <a:ext cx="914400" cy="38088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Life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43" idx="3"/>
            <a:endCxn id="83" idx="0"/>
          </p:cNvCxnSpPr>
          <p:nvPr/>
        </p:nvCxnSpPr>
        <p:spPr>
          <a:xfrm>
            <a:off x="7543800" y="1143000"/>
            <a:ext cx="838800" cy="9914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2" idx="2"/>
            <a:endCxn id="46" idx="0"/>
          </p:cNvCxnSpPr>
          <p:nvPr/>
        </p:nvCxnSpPr>
        <p:spPr>
          <a:xfrm>
            <a:off x="5409720" y="13712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46" idx="2"/>
          </p:cNvCxnSpPr>
          <p:nvPr/>
        </p:nvCxnSpPr>
        <p:spPr>
          <a:xfrm>
            <a:off x="5409720" y="2209320"/>
            <a:ext cx="1080" cy="3056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46" idx="3"/>
          </p:cNvCxnSpPr>
          <p:nvPr/>
        </p:nvCxnSpPr>
        <p:spPr>
          <a:xfrm>
            <a:off x="5943240" y="1904760"/>
            <a:ext cx="610200" cy="205776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7" idx="2"/>
            <a:endCxn id="68" idx="0"/>
          </p:cNvCxnSpPr>
          <p:nvPr/>
        </p:nvCxnSpPr>
        <p:spPr>
          <a:xfrm>
            <a:off x="2476080" y="11426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51460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1295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1676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5715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51" idx="3"/>
          </p:cNvCxnSpPr>
          <p:nvPr/>
        </p:nvCxnSpPr>
        <p:spPr>
          <a:xfrm>
            <a:off x="2590560" y="5486040"/>
            <a:ext cx="22932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62" idx="1"/>
          </p:cNvCxnSpPr>
          <p:nvPr/>
        </p:nvCxnSpPr>
        <p:spPr>
          <a:xfrm flipH="1" rot="10800000">
            <a:off x="1446840" y="4037760"/>
            <a:ext cx="533880" cy="2286720"/>
          </a:xfrm>
          <a:prstGeom prst="bentConnector4">
            <a:avLst>
              <a:gd name="adj1" fmla="val -42847"/>
              <a:gd name="adj2" fmla="val 10096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7543800" y="838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15200" y="4267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7339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5105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943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3962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800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213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838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267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3276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15200" y="3352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5334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5715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638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endCxn id="44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3" idx="2"/>
            <a:endCxn id="44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4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4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"/>
          <p:cNvCxnSpPr>
            <a:stCxn id="447" idx="3"/>
            <a:endCxn id="45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50" idx="2"/>
            <a:endCxn id="44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47" idx="2"/>
            <a:endCxn id="45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endCxn id="46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66" name=""/>
          <p:cNvCxnSpPr>
            <a:stCxn id="463" idx="2"/>
            <a:endCxn id="46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6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6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7" idx="3"/>
            <a:endCxn id="47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70" idx="2"/>
            <a:endCxn id="46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>
            <a:stCxn id="467" idx="2"/>
            <a:endCxn id="47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8" name=""/>
          <p:cNvCxnSpPr>
            <a:stCxn id="47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 Clause Dec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5880" y="3733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endCxn id="48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86" name=""/>
          <p:cNvCxnSpPr>
            <a:stCxn id="483" idx="2"/>
            <a:endCxn id="48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489" idx="2"/>
            <a:endCxn id="484" idx="0"/>
          </p:cNvCxnSpPr>
          <p:nvPr/>
        </p:nvCxnSpPr>
        <p:spPr>
          <a:xfrm>
            <a:off x="6400440" y="32767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90" name=""/>
          <p:cNvCxnSpPr>
            <a:stCxn id="484" idx="2"/>
          </p:cNvCxnSpPr>
          <p:nvPr/>
        </p:nvCxnSpPr>
        <p:spPr>
          <a:xfrm>
            <a:off x="6400440" y="39625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5880" y="30481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13720" y="249228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" y="1752480"/>
            <a:ext cx="480060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test for real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double radical = b*b - 4*a*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radical &g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e roots are real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Proceeding to next test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4" name=""/>
          <p:cNvCxnSpPr>
            <a:stCxn id="487" idx="2"/>
            <a:endCxn id="489" idx="0"/>
          </p:cNvCxnSpPr>
          <p:nvPr/>
        </p:nvCxnSpPr>
        <p:spPr>
          <a:xfrm flipV="1" rot="10800000">
            <a:off x="6400080" y="281916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87" idx="3"/>
          </p:cNvCxnSpPr>
          <p:nvPr/>
        </p:nvCxnSpPr>
        <p:spPr>
          <a:xfrm>
            <a:off x="6705360" y="2666520"/>
            <a:ext cx="686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/>
          <p:nvPr/>
        </p:nvCxnSpPr>
        <p:spPr>
          <a:xfrm flipH="1">
            <a:off x="6400440" y="3428640"/>
            <a:ext cx="99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endCxn id="499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stCxn id="499" idx="2"/>
            <a:endCxn id="503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503" idx="2"/>
            <a:endCxn id="500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0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stCxn id="503" idx="3"/>
            <a:endCxn id="507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08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while (i &lt;= 10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endCxn id="511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11" idx="2"/>
            <a:endCxn id="515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15" idx="2"/>
            <a:endCxn id="512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17" name=""/>
          <p:cNvCxnSpPr>
            <a:stCxn id="512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15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8" name=""/>
          <p:cNvCxnSpPr>
            <a:stCxn id="515" idx="3"/>
            <a:endCxn id="519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20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while (i &lt;= 10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"/>
          <p:cNvCxnSpPr>
            <a:endCxn id="523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23" idx="2"/>
            <a:endCxn id="527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28" name=""/>
          <p:cNvCxnSpPr>
            <a:stCxn id="527" idx="2"/>
            <a:endCxn id="524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29" name=""/>
          <p:cNvCxnSpPr>
            <a:stCxn id="524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27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7" idx="3"/>
            <a:endCxn id="531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while (i &lt;= 10)</a:t>
            </a: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7" name=""/>
          <p:cNvCxnSpPr>
            <a:endCxn id="535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38" name=""/>
          <p:cNvCxnSpPr>
            <a:stCxn id="535" idx="2"/>
            <a:endCxn id="539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40" name=""/>
          <p:cNvCxnSpPr>
            <a:stCxn id="539" idx="2"/>
            <a:endCxn id="536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36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2" name=""/>
          <p:cNvCxnSpPr>
            <a:stCxn id="539" idx="3"/>
            <a:endCxn id="543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44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while (i &lt;= 10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endCxn id="547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50" name=""/>
          <p:cNvCxnSpPr>
            <a:stCxn id="547" idx="2"/>
            <a:endCxn id="551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52" name=""/>
          <p:cNvCxnSpPr>
            <a:stCxn id="551" idx="2"/>
            <a:endCxn id="548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53" name=""/>
          <p:cNvCxnSpPr>
            <a:stCxn id="548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4" name=""/>
          <p:cNvCxnSpPr>
            <a:stCxn id="551" idx="3"/>
            <a:endCxn id="555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56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while (i &lt;= 10)</a:t>
            </a: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endCxn id="559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62" name=""/>
          <p:cNvCxnSpPr>
            <a:stCxn id="559" idx="2"/>
            <a:endCxn id="563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3" idx="2"/>
            <a:endCxn id="560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65" name=""/>
          <p:cNvCxnSpPr>
            <a:stCxn id="560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63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3" idx="3"/>
            <a:endCxn id="567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68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while (i &lt;= 10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"/>
          <p:cNvCxnSpPr>
            <a:endCxn id="571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71" idx="2"/>
            <a:endCxn id="575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75" idx="2"/>
            <a:endCxn id="572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72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75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5" idx="3"/>
            <a:endCxn id="579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while (i &lt;= 10)</a:t>
            </a: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400800" y="8380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ccept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152280"/>
            <a:ext cx="990360" cy="3812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pply t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2819520"/>
            <a:ext cx="8384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1600200"/>
            <a:ext cx="106668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cholarshi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373392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Pas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365760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Ke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cholarshi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65760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Fami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ympathetic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43434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51814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H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enough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91440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 =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48006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 = i +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7242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Credi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to gra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3" idx="2"/>
            <a:endCxn id="115" idx="0"/>
          </p:cNvCxnSpPr>
          <p:nvPr/>
        </p:nvCxnSpPr>
        <p:spPr>
          <a:xfrm>
            <a:off x="4000320" y="3352320"/>
            <a:ext cx="1080" cy="3819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5" idx="2"/>
            <a:endCxn id="122" idx="0"/>
          </p:cNvCxnSpPr>
          <p:nvPr/>
        </p:nvCxnSpPr>
        <p:spPr>
          <a:xfrm>
            <a:off x="4000320" y="4343400"/>
            <a:ext cx="1080" cy="3816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2" idx="3"/>
            <a:endCxn id="121" idx="1"/>
          </p:cNvCxnSpPr>
          <p:nvPr/>
        </p:nvCxnSpPr>
        <p:spPr>
          <a:xfrm>
            <a:off x="4571640" y="5029200"/>
            <a:ext cx="686520" cy="388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1" idx="0"/>
            <a:endCxn id="116" idx="2"/>
          </p:cNvCxnSpPr>
          <p:nvPr/>
        </p:nvCxnSpPr>
        <p:spPr>
          <a:xfrm flipV="1">
            <a:off x="5676480" y="426672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6172200" y="3962520"/>
            <a:ext cx="6858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6" idx="0"/>
          </p:cNvCxnSpPr>
          <p:nvPr/>
        </p:nvCxnSpPr>
        <p:spPr>
          <a:xfrm flipH="1" flipV="1">
            <a:off x="5638320" y="2513880"/>
            <a:ext cx="38880" cy="11437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934320" y="48006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601992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G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enough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56386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Real 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Offer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7" idx="2"/>
            <a:endCxn id="129" idx="0"/>
          </p:cNvCxnSpPr>
          <p:nvPr/>
        </p:nvCxnSpPr>
        <p:spPr>
          <a:xfrm>
            <a:off x="7353000" y="426708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2"/>
            <a:endCxn id="130" idx="3"/>
          </p:cNvCxnSpPr>
          <p:nvPr/>
        </p:nvCxnSpPr>
        <p:spPr>
          <a:xfrm rot="5400000">
            <a:off x="4476240" y="3447720"/>
            <a:ext cx="991080" cy="476316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30" idx="2"/>
            <a:endCxn id="135" idx="0"/>
          </p:cNvCxnSpPr>
          <p:nvPr/>
        </p:nvCxnSpPr>
        <p:spPr>
          <a:xfrm flipH="1" flipV="1" rot="5400000">
            <a:off x="-724320" y="3428640"/>
            <a:ext cx="5944320" cy="457920"/>
          </a:xfrm>
          <a:prstGeom prst="bentConnector5">
            <a:avLst>
              <a:gd name="adj1" fmla="val -2240"/>
              <a:gd name="adj2" fmla="val -297167"/>
              <a:gd name="adj3" fmla="val 103845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981080" y="685800"/>
            <a:ext cx="990720" cy="4572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reapply t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12952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ccept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1905120"/>
            <a:ext cx="8384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6" idx="3"/>
            <a:endCxn id="137" idx="0"/>
          </p:cNvCxnSpPr>
          <p:nvPr/>
        </p:nvCxnSpPr>
        <p:spPr>
          <a:xfrm>
            <a:off x="3048120" y="1599840"/>
            <a:ext cx="953280" cy="3056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6" idx="2"/>
          </p:cNvCxnSpPr>
          <p:nvPr/>
        </p:nvCxnSpPr>
        <p:spPr>
          <a:xfrm rot="5400000">
            <a:off x="1009080" y="2876400"/>
            <a:ext cx="2439000" cy="49608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15" idx="1"/>
          </p:cNvCxnSpPr>
          <p:nvPr/>
        </p:nvCxnSpPr>
        <p:spPr>
          <a:xfrm flipH="1">
            <a:off x="1980720" y="4038120"/>
            <a:ext cx="144864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18" idx="2"/>
            <a:endCxn id="119" idx="0"/>
          </p:cNvCxnSpPr>
          <p:nvPr/>
        </p:nvCxnSpPr>
        <p:spPr>
          <a:xfrm>
            <a:off x="2018880" y="48769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19" idx="2"/>
            <a:endCxn id="130" idx="0"/>
          </p:cNvCxnSpPr>
          <p:nvPr/>
        </p:nvCxnSpPr>
        <p:spPr>
          <a:xfrm>
            <a:off x="2018880" y="57909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1" idx="1"/>
          </p:cNvCxnSpPr>
          <p:nvPr/>
        </p:nvCxnSpPr>
        <p:spPr>
          <a:xfrm rot="10800000">
            <a:off x="2818800" y="4037760"/>
            <a:ext cx="610200" cy="19058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2" idx="2"/>
            <a:endCxn id="131" idx="0"/>
          </p:cNvCxnSpPr>
          <p:nvPr/>
        </p:nvCxnSpPr>
        <p:spPr>
          <a:xfrm>
            <a:off x="4000320" y="53341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924680" y="6172200"/>
            <a:ext cx="990720" cy="45720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40 years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ortgages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car lo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31" idx="3"/>
            <a:endCxn id="145" idx="0"/>
          </p:cNvCxnSpPr>
          <p:nvPr/>
        </p:nvCxnSpPr>
        <p:spPr>
          <a:xfrm>
            <a:off x="4571640" y="5943240"/>
            <a:ext cx="384876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13" idx="0"/>
          </p:cNvCxnSpPr>
          <p:nvPr/>
        </p:nvCxnSpPr>
        <p:spPr>
          <a:xfrm>
            <a:off x="4000320" y="228600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17" idx="0"/>
          </p:cNvCxnSpPr>
          <p:nvPr/>
        </p:nvCxnSpPr>
        <p:spPr>
          <a:xfrm flipV="1" rot="16200000">
            <a:off x="5123880" y="1427760"/>
            <a:ext cx="1143720" cy="331560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12" idx="2"/>
            <a:endCxn id="111" idx="0"/>
          </p:cNvCxnSpPr>
          <p:nvPr/>
        </p:nvCxnSpPr>
        <p:spPr>
          <a:xfrm>
            <a:off x="6972120" y="5335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11" idx="1"/>
            <a:endCxn id="120" idx="3"/>
          </p:cNvCxnSpPr>
          <p:nvPr/>
        </p:nvCxnSpPr>
        <p:spPr>
          <a:xfrm flipH="1">
            <a:off x="5790600" y="1142640"/>
            <a:ext cx="61020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7924680" y="2133720"/>
            <a:ext cx="914400" cy="38088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Life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11" idx="3"/>
            <a:endCxn id="151" idx="0"/>
          </p:cNvCxnSpPr>
          <p:nvPr/>
        </p:nvCxnSpPr>
        <p:spPr>
          <a:xfrm>
            <a:off x="7543800" y="1143000"/>
            <a:ext cx="838800" cy="9914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20" idx="2"/>
            <a:endCxn id="114" idx="0"/>
          </p:cNvCxnSpPr>
          <p:nvPr/>
        </p:nvCxnSpPr>
        <p:spPr>
          <a:xfrm>
            <a:off x="5409720" y="13712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14" idx="2"/>
          </p:cNvCxnSpPr>
          <p:nvPr/>
        </p:nvCxnSpPr>
        <p:spPr>
          <a:xfrm>
            <a:off x="5409720" y="2209320"/>
            <a:ext cx="1080" cy="3056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14" idx="3"/>
          </p:cNvCxnSpPr>
          <p:nvPr/>
        </p:nvCxnSpPr>
        <p:spPr>
          <a:xfrm>
            <a:off x="5943240" y="1904760"/>
            <a:ext cx="610200" cy="205776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35" idx="2"/>
            <a:endCxn id="136" idx="0"/>
          </p:cNvCxnSpPr>
          <p:nvPr/>
        </p:nvCxnSpPr>
        <p:spPr>
          <a:xfrm>
            <a:off x="2476080" y="11426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51460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1295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1676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5715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19" idx="3"/>
          </p:cNvCxnSpPr>
          <p:nvPr/>
        </p:nvCxnSpPr>
        <p:spPr>
          <a:xfrm>
            <a:off x="2590560" y="5486040"/>
            <a:ext cx="22932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30" idx="1"/>
          </p:cNvCxnSpPr>
          <p:nvPr/>
        </p:nvCxnSpPr>
        <p:spPr>
          <a:xfrm flipH="1" rot="10800000">
            <a:off x="1446840" y="4037760"/>
            <a:ext cx="533880" cy="2286720"/>
          </a:xfrm>
          <a:prstGeom prst="bentConnector4">
            <a:avLst>
              <a:gd name="adj1" fmla="val -42847"/>
              <a:gd name="adj2" fmla="val 10096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7543800" y="838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4267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37339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5105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5943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72200" y="3962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4800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213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838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4267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3276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15200" y="3352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5334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5715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5638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6775560" cy="4129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rot="7264200">
            <a:off x="1360080" y="3241440"/>
            <a:ext cx="4805640" cy="1928880"/>
          </a:xfrm>
          <a:custGeom>
            <a:avLst/>
            <a:gdLst/>
            <a:ahLst/>
            <a:rect l="l" t="t" r="r" b="b"/>
            <a:pathLst>
              <a:path w="3027" h="1215">
                <a:moveTo>
                  <a:pt x="0" y="0"/>
                </a:moveTo>
                <a:lnTo>
                  <a:pt x="126" y="0"/>
                </a:lnTo>
                <a:lnTo>
                  <a:pt x="234" y="3"/>
                </a:lnTo>
                <a:lnTo>
                  <a:pt x="353" y="8"/>
                </a:lnTo>
                <a:lnTo>
                  <a:pt x="473" y="12"/>
                </a:lnTo>
                <a:lnTo>
                  <a:pt x="604" y="21"/>
                </a:lnTo>
                <a:lnTo>
                  <a:pt x="731" y="32"/>
                </a:lnTo>
                <a:lnTo>
                  <a:pt x="843" y="41"/>
                </a:lnTo>
                <a:lnTo>
                  <a:pt x="969" y="54"/>
                </a:lnTo>
                <a:lnTo>
                  <a:pt x="1082" y="68"/>
                </a:lnTo>
                <a:lnTo>
                  <a:pt x="1186" y="81"/>
                </a:lnTo>
                <a:lnTo>
                  <a:pt x="1307" y="99"/>
                </a:lnTo>
                <a:lnTo>
                  <a:pt x="1452" y="126"/>
                </a:lnTo>
                <a:lnTo>
                  <a:pt x="1578" y="149"/>
                </a:lnTo>
                <a:lnTo>
                  <a:pt x="1718" y="180"/>
                </a:lnTo>
                <a:lnTo>
                  <a:pt x="1863" y="216"/>
                </a:lnTo>
                <a:lnTo>
                  <a:pt x="1998" y="252"/>
                </a:lnTo>
                <a:lnTo>
                  <a:pt x="2106" y="288"/>
                </a:lnTo>
                <a:lnTo>
                  <a:pt x="2243" y="333"/>
                </a:lnTo>
                <a:lnTo>
                  <a:pt x="2355" y="378"/>
                </a:lnTo>
                <a:lnTo>
                  <a:pt x="2454" y="418"/>
                </a:lnTo>
                <a:lnTo>
                  <a:pt x="2535" y="463"/>
                </a:lnTo>
                <a:lnTo>
                  <a:pt x="2616" y="504"/>
                </a:lnTo>
                <a:lnTo>
                  <a:pt x="2680" y="544"/>
                </a:lnTo>
                <a:lnTo>
                  <a:pt x="2734" y="580"/>
                </a:lnTo>
                <a:lnTo>
                  <a:pt x="2793" y="626"/>
                </a:lnTo>
                <a:lnTo>
                  <a:pt x="2851" y="671"/>
                </a:lnTo>
                <a:lnTo>
                  <a:pt x="2896" y="716"/>
                </a:lnTo>
                <a:lnTo>
                  <a:pt x="2960" y="801"/>
                </a:lnTo>
                <a:lnTo>
                  <a:pt x="3000" y="874"/>
                </a:lnTo>
                <a:lnTo>
                  <a:pt x="3009" y="905"/>
                </a:lnTo>
                <a:lnTo>
                  <a:pt x="3027" y="967"/>
                </a:lnTo>
                <a:lnTo>
                  <a:pt x="3027" y="1017"/>
                </a:lnTo>
                <a:lnTo>
                  <a:pt x="3027" y="1215"/>
                </a:lnTo>
                <a:lnTo>
                  <a:pt x="2901" y="1120"/>
                </a:lnTo>
                <a:lnTo>
                  <a:pt x="2296" y="684"/>
                </a:lnTo>
                <a:lnTo>
                  <a:pt x="1420" y="454"/>
                </a:lnTo>
                <a:lnTo>
                  <a:pt x="516" y="333"/>
                </a:lnTo>
                <a:lnTo>
                  <a:pt x="0" y="306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7261800">
            <a:off x="1359000" y="3680280"/>
            <a:ext cx="4800600" cy="1484280"/>
          </a:xfrm>
          <a:custGeom>
            <a:avLst/>
            <a:gdLst/>
            <a:ahLst/>
            <a:rect l="l" t="t" r="r" b="b"/>
            <a:pathLst>
              <a:path w="3024" h="935">
                <a:moveTo>
                  <a:pt x="0" y="148"/>
                </a:moveTo>
                <a:lnTo>
                  <a:pt x="79" y="148"/>
                </a:lnTo>
                <a:lnTo>
                  <a:pt x="179" y="149"/>
                </a:lnTo>
                <a:lnTo>
                  <a:pt x="260" y="151"/>
                </a:lnTo>
                <a:lnTo>
                  <a:pt x="341" y="154"/>
                </a:lnTo>
                <a:lnTo>
                  <a:pt x="431" y="158"/>
                </a:lnTo>
                <a:lnTo>
                  <a:pt x="513" y="163"/>
                </a:lnTo>
                <a:lnTo>
                  <a:pt x="606" y="169"/>
                </a:lnTo>
                <a:lnTo>
                  <a:pt x="681" y="175"/>
                </a:lnTo>
                <a:lnTo>
                  <a:pt x="776" y="184"/>
                </a:lnTo>
                <a:lnTo>
                  <a:pt x="868" y="194"/>
                </a:lnTo>
                <a:lnTo>
                  <a:pt x="967" y="205"/>
                </a:lnTo>
                <a:lnTo>
                  <a:pt x="1050" y="217"/>
                </a:lnTo>
                <a:lnTo>
                  <a:pt x="1127" y="227"/>
                </a:lnTo>
                <a:lnTo>
                  <a:pt x="1214" y="240"/>
                </a:lnTo>
                <a:lnTo>
                  <a:pt x="1341" y="262"/>
                </a:lnTo>
                <a:lnTo>
                  <a:pt x="1456" y="286"/>
                </a:lnTo>
                <a:lnTo>
                  <a:pt x="1595" y="318"/>
                </a:lnTo>
                <a:lnTo>
                  <a:pt x="1685" y="342"/>
                </a:lnTo>
                <a:lnTo>
                  <a:pt x="1744" y="359"/>
                </a:lnTo>
                <a:lnTo>
                  <a:pt x="1857" y="393"/>
                </a:lnTo>
                <a:lnTo>
                  <a:pt x="1963" y="431"/>
                </a:lnTo>
                <a:lnTo>
                  <a:pt x="2042" y="461"/>
                </a:lnTo>
                <a:lnTo>
                  <a:pt x="2102" y="486"/>
                </a:lnTo>
                <a:lnTo>
                  <a:pt x="2169" y="518"/>
                </a:lnTo>
                <a:lnTo>
                  <a:pt x="2225" y="548"/>
                </a:lnTo>
                <a:lnTo>
                  <a:pt x="2272" y="575"/>
                </a:lnTo>
                <a:lnTo>
                  <a:pt x="2325" y="610"/>
                </a:lnTo>
                <a:lnTo>
                  <a:pt x="2371" y="643"/>
                </a:lnTo>
                <a:lnTo>
                  <a:pt x="2410" y="676"/>
                </a:lnTo>
                <a:lnTo>
                  <a:pt x="2445" y="706"/>
                </a:lnTo>
                <a:lnTo>
                  <a:pt x="2472" y="736"/>
                </a:lnTo>
                <a:lnTo>
                  <a:pt x="2493" y="763"/>
                </a:lnTo>
                <a:lnTo>
                  <a:pt x="2511" y="793"/>
                </a:lnTo>
                <a:lnTo>
                  <a:pt x="2526" y="820"/>
                </a:lnTo>
                <a:lnTo>
                  <a:pt x="2535" y="844"/>
                </a:lnTo>
                <a:lnTo>
                  <a:pt x="2546" y="876"/>
                </a:lnTo>
                <a:lnTo>
                  <a:pt x="2550" y="905"/>
                </a:lnTo>
                <a:lnTo>
                  <a:pt x="2552" y="935"/>
                </a:lnTo>
                <a:lnTo>
                  <a:pt x="3024" y="935"/>
                </a:lnTo>
                <a:lnTo>
                  <a:pt x="3020" y="887"/>
                </a:lnTo>
                <a:lnTo>
                  <a:pt x="3011" y="846"/>
                </a:lnTo>
                <a:lnTo>
                  <a:pt x="2999" y="811"/>
                </a:lnTo>
                <a:lnTo>
                  <a:pt x="2984" y="783"/>
                </a:lnTo>
                <a:lnTo>
                  <a:pt x="2967" y="753"/>
                </a:lnTo>
                <a:lnTo>
                  <a:pt x="2943" y="720"/>
                </a:lnTo>
                <a:lnTo>
                  <a:pt x="2922" y="694"/>
                </a:lnTo>
                <a:lnTo>
                  <a:pt x="2887" y="658"/>
                </a:lnTo>
                <a:lnTo>
                  <a:pt x="2853" y="626"/>
                </a:lnTo>
                <a:lnTo>
                  <a:pt x="2817" y="595"/>
                </a:lnTo>
                <a:lnTo>
                  <a:pt x="2774" y="563"/>
                </a:lnTo>
                <a:lnTo>
                  <a:pt x="2737" y="537"/>
                </a:lnTo>
                <a:lnTo>
                  <a:pt x="2675" y="500"/>
                </a:lnTo>
                <a:lnTo>
                  <a:pt x="2615" y="465"/>
                </a:lnTo>
                <a:lnTo>
                  <a:pt x="2525" y="422"/>
                </a:lnTo>
                <a:lnTo>
                  <a:pt x="2436" y="383"/>
                </a:lnTo>
                <a:lnTo>
                  <a:pt x="2346" y="347"/>
                </a:lnTo>
                <a:lnTo>
                  <a:pt x="2265" y="317"/>
                </a:lnTo>
                <a:lnTo>
                  <a:pt x="2151" y="279"/>
                </a:lnTo>
                <a:lnTo>
                  <a:pt x="2019" y="240"/>
                </a:lnTo>
                <a:lnTo>
                  <a:pt x="1888" y="208"/>
                </a:lnTo>
                <a:lnTo>
                  <a:pt x="1769" y="181"/>
                </a:lnTo>
                <a:lnTo>
                  <a:pt x="1688" y="163"/>
                </a:lnTo>
                <a:lnTo>
                  <a:pt x="1587" y="142"/>
                </a:lnTo>
                <a:lnTo>
                  <a:pt x="1514" y="128"/>
                </a:lnTo>
                <a:lnTo>
                  <a:pt x="1431" y="115"/>
                </a:lnTo>
                <a:lnTo>
                  <a:pt x="1347" y="101"/>
                </a:lnTo>
                <a:lnTo>
                  <a:pt x="1265" y="89"/>
                </a:lnTo>
                <a:lnTo>
                  <a:pt x="1157" y="74"/>
                </a:lnTo>
                <a:lnTo>
                  <a:pt x="1062" y="64"/>
                </a:lnTo>
                <a:lnTo>
                  <a:pt x="960" y="52"/>
                </a:lnTo>
                <a:lnTo>
                  <a:pt x="838" y="40"/>
                </a:lnTo>
                <a:lnTo>
                  <a:pt x="716" y="29"/>
                </a:lnTo>
                <a:lnTo>
                  <a:pt x="618" y="23"/>
                </a:lnTo>
                <a:lnTo>
                  <a:pt x="505" y="15"/>
                </a:lnTo>
                <a:lnTo>
                  <a:pt x="386" y="11"/>
                </a:lnTo>
                <a:lnTo>
                  <a:pt x="225" y="5"/>
                </a:lnTo>
                <a:lnTo>
                  <a:pt x="79" y="3"/>
                </a:lnTo>
                <a:lnTo>
                  <a:pt x="0" y="0"/>
                </a:lnTo>
                <a:lnTo>
                  <a:pt x="0" y="14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7263000">
            <a:off x="1608480" y="1743840"/>
            <a:ext cx="4806720" cy="1928520"/>
          </a:xfrm>
          <a:custGeom>
            <a:avLst/>
            <a:gdLst/>
            <a:ahLst/>
            <a:rect l="l" t="t" r="r" b="b"/>
            <a:pathLst>
              <a:path w="3028" h="1215">
                <a:moveTo>
                  <a:pt x="0" y="1215"/>
                </a:moveTo>
                <a:lnTo>
                  <a:pt x="126" y="1215"/>
                </a:lnTo>
                <a:lnTo>
                  <a:pt x="235" y="1212"/>
                </a:lnTo>
                <a:lnTo>
                  <a:pt x="354" y="1207"/>
                </a:lnTo>
                <a:lnTo>
                  <a:pt x="474" y="1203"/>
                </a:lnTo>
                <a:lnTo>
                  <a:pt x="605" y="1194"/>
                </a:lnTo>
                <a:lnTo>
                  <a:pt x="731" y="1183"/>
                </a:lnTo>
                <a:lnTo>
                  <a:pt x="843" y="1174"/>
                </a:lnTo>
                <a:lnTo>
                  <a:pt x="969" y="1161"/>
                </a:lnTo>
                <a:lnTo>
                  <a:pt x="1082" y="1147"/>
                </a:lnTo>
                <a:lnTo>
                  <a:pt x="1186" y="1134"/>
                </a:lnTo>
                <a:lnTo>
                  <a:pt x="1308" y="1116"/>
                </a:lnTo>
                <a:lnTo>
                  <a:pt x="1452" y="1089"/>
                </a:lnTo>
                <a:lnTo>
                  <a:pt x="1579" y="1066"/>
                </a:lnTo>
                <a:lnTo>
                  <a:pt x="1719" y="1035"/>
                </a:lnTo>
                <a:lnTo>
                  <a:pt x="1863" y="999"/>
                </a:lnTo>
                <a:lnTo>
                  <a:pt x="1999" y="963"/>
                </a:lnTo>
                <a:lnTo>
                  <a:pt x="2107" y="927"/>
                </a:lnTo>
                <a:lnTo>
                  <a:pt x="2243" y="882"/>
                </a:lnTo>
                <a:lnTo>
                  <a:pt x="2355" y="837"/>
                </a:lnTo>
                <a:lnTo>
                  <a:pt x="2454" y="797"/>
                </a:lnTo>
                <a:lnTo>
                  <a:pt x="2536" y="752"/>
                </a:lnTo>
                <a:lnTo>
                  <a:pt x="2617" y="711"/>
                </a:lnTo>
                <a:lnTo>
                  <a:pt x="2680" y="671"/>
                </a:lnTo>
                <a:lnTo>
                  <a:pt x="2734" y="635"/>
                </a:lnTo>
                <a:lnTo>
                  <a:pt x="2793" y="589"/>
                </a:lnTo>
                <a:lnTo>
                  <a:pt x="2852" y="544"/>
                </a:lnTo>
                <a:lnTo>
                  <a:pt x="2897" y="499"/>
                </a:lnTo>
                <a:lnTo>
                  <a:pt x="2960" y="414"/>
                </a:lnTo>
                <a:lnTo>
                  <a:pt x="3001" y="341"/>
                </a:lnTo>
                <a:lnTo>
                  <a:pt x="3010" y="310"/>
                </a:lnTo>
                <a:lnTo>
                  <a:pt x="3028" y="248"/>
                </a:lnTo>
                <a:lnTo>
                  <a:pt x="3028" y="198"/>
                </a:lnTo>
                <a:lnTo>
                  <a:pt x="3028" y="0"/>
                </a:lnTo>
                <a:lnTo>
                  <a:pt x="2901" y="95"/>
                </a:lnTo>
                <a:lnTo>
                  <a:pt x="2297" y="531"/>
                </a:lnTo>
                <a:lnTo>
                  <a:pt x="1421" y="761"/>
                </a:lnTo>
                <a:lnTo>
                  <a:pt x="516" y="882"/>
                </a:lnTo>
                <a:lnTo>
                  <a:pt x="0" y="909"/>
                </a:lnTo>
                <a:lnTo>
                  <a:pt x="0" y="121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7257000">
            <a:off x="4941720" y="1785600"/>
            <a:ext cx="1631880" cy="400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65120" y="137520"/>
            <a:ext cx="4956120" cy="6678360"/>
            <a:chOff x="2265120" y="137520"/>
            <a:chExt cx="4956120" cy="6678360"/>
          </a:xfrm>
        </p:grpSpPr>
        <p:sp>
          <p:nvSpPr>
            <p:cNvPr id="185" name=""/>
            <p:cNvSpPr/>
            <p:nvPr/>
          </p:nvSpPr>
          <p:spPr>
            <a:xfrm rot="7262400">
              <a:off x="3298680" y="4829760"/>
              <a:ext cx="227160" cy="1714680"/>
            </a:xfrm>
            <a:custGeom>
              <a:avLst/>
              <a:gdLst/>
              <a:ahLst/>
              <a:rect l="l" t="t" r="r" b="b"/>
              <a:pathLst>
                <a:path w="143" h="1080">
                  <a:moveTo>
                    <a:pt x="143" y="0"/>
                  </a:moveTo>
                  <a:lnTo>
                    <a:pt x="143" y="1080"/>
                  </a:lnTo>
                  <a:lnTo>
                    <a:pt x="0" y="792"/>
                  </a:lnTo>
                  <a:lnTo>
                    <a:pt x="0" y="287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262400">
              <a:off x="1361520" y="2619360"/>
              <a:ext cx="6762600" cy="1714680"/>
            </a:xfrm>
            <a:custGeom>
              <a:avLst/>
              <a:gdLst/>
              <a:ahLst/>
              <a:rect l="l" t="t" r="r" b="b"/>
              <a:pathLst>
                <a:path w="4260" h="1080">
                  <a:moveTo>
                    <a:pt x="3827" y="359"/>
                  </a:moveTo>
                  <a:lnTo>
                    <a:pt x="3827" y="0"/>
                  </a:lnTo>
                  <a:lnTo>
                    <a:pt x="4260" y="576"/>
                  </a:lnTo>
                  <a:lnTo>
                    <a:pt x="3827" y="1080"/>
                  </a:lnTo>
                  <a:lnTo>
                    <a:pt x="3827" y="720"/>
                  </a:lnTo>
                  <a:lnTo>
                    <a:pt x="0" y="720"/>
                  </a:lnTo>
                  <a:lnTo>
                    <a:pt x="0" y="359"/>
                  </a:lnTo>
                  <a:lnTo>
                    <a:pt x="3827" y="3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 rot="7260000">
            <a:off x="4936320" y="1409400"/>
            <a:ext cx="1630440" cy="376200"/>
          </a:xfrm>
          <a:custGeom>
            <a:avLst/>
            <a:gdLst/>
            <a:ahLst/>
            <a:rect l="l" t="t" r="r" b="b"/>
            <a:pathLst>
              <a:path w="1027" h="237">
                <a:moveTo>
                  <a:pt x="0" y="237"/>
                </a:moveTo>
                <a:lnTo>
                  <a:pt x="1027" y="237"/>
                </a:lnTo>
                <a:lnTo>
                  <a:pt x="513" y="0"/>
                </a:lnTo>
                <a:lnTo>
                  <a:pt x="0" y="23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7260600">
            <a:off x="1357200" y="1785240"/>
            <a:ext cx="4802040" cy="1484640"/>
          </a:xfrm>
          <a:custGeom>
            <a:avLst/>
            <a:gdLst/>
            <a:ahLst/>
            <a:rect l="l" t="t" r="r" b="b"/>
            <a:pathLst>
              <a:path w="3025" h="935">
                <a:moveTo>
                  <a:pt x="2" y="789"/>
                </a:moveTo>
                <a:lnTo>
                  <a:pt x="80" y="787"/>
                </a:lnTo>
                <a:lnTo>
                  <a:pt x="179" y="786"/>
                </a:lnTo>
                <a:lnTo>
                  <a:pt x="260" y="784"/>
                </a:lnTo>
                <a:lnTo>
                  <a:pt x="342" y="781"/>
                </a:lnTo>
                <a:lnTo>
                  <a:pt x="432" y="777"/>
                </a:lnTo>
                <a:lnTo>
                  <a:pt x="513" y="772"/>
                </a:lnTo>
                <a:lnTo>
                  <a:pt x="606" y="766"/>
                </a:lnTo>
                <a:lnTo>
                  <a:pt x="682" y="760"/>
                </a:lnTo>
                <a:lnTo>
                  <a:pt x="777" y="751"/>
                </a:lnTo>
                <a:lnTo>
                  <a:pt x="869" y="741"/>
                </a:lnTo>
                <a:lnTo>
                  <a:pt x="968" y="730"/>
                </a:lnTo>
                <a:lnTo>
                  <a:pt x="1051" y="718"/>
                </a:lnTo>
                <a:lnTo>
                  <a:pt x="1127" y="708"/>
                </a:lnTo>
                <a:lnTo>
                  <a:pt x="1215" y="695"/>
                </a:lnTo>
                <a:lnTo>
                  <a:pt x="1341" y="673"/>
                </a:lnTo>
                <a:lnTo>
                  <a:pt x="1457" y="649"/>
                </a:lnTo>
                <a:lnTo>
                  <a:pt x="1595" y="617"/>
                </a:lnTo>
                <a:lnTo>
                  <a:pt x="1686" y="593"/>
                </a:lnTo>
                <a:lnTo>
                  <a:pt x="1744" y="576"/>
                </a:lnTo>
                <a:lnTo>
                  <a:pt x="1857" y="542"/>
                </a:lnTo>
                <a:lnTo>
                  <a:pt x="1964" y="504"/>
                </a:lnTo>
                <a:lnTo>
                  <a:pt x="2042" y="474"/>
                </a:lnTo>
                <a:lnTo>
                  <a:pt x="2102" y="449"/>
                </a:lnTo>
                <a:lnTo>
                  <a:pt x="2170" y="417"/>
                </a:lnTo>
                <a:lnTo>
                  <a:pt x="2225" y="387"/>
                </a:lnTo>
                <a:lnTo>
                  <a:pt x="2272" y="360"/>
                </a:lnTo>
                <a:lnTo>
                  <a:pt x="2325" y="325"/>
                </a:lnTo>
                <a:lnTo>
                  <a:pt x="2372" y="292"/>
                </a:lnTo>
                <a:lnTo>
                  <a:pt x="2411" y="259"/>
                </a:lnTo>
                <a:lnTo>
                  <a:pt x="2445" y="229"/>
                </a:lnTo>
                <a:lnTo>
                  <a:pt x="2473" y="199"/>
                </a:lnTo>
                <a:lnTo>
                  <a:pt x="2494" y="172"/>
                </a:lnTo>
                <a:lnTo>
                  <a:pt x="2512" y="142"/>
                </a:lnTo>
                <a:lnTo>
                  <a:pt x="2527" y="115"/>
                </a:lnTo>
                <a:lnTo>
                  <a:pt x="2536" y="91"/>
                </a:lnTo>
                <a:lnTo>
                  <a:pt x="2546" y="59"/>
                </a:lnTo>
                <a:lnTo>
                  <a:pt x="2551" y="30"/>
                </a:lnTo>
                <a:lnTo>
                  <a:pt x="2552" y="0"/>
                </a:lnTo>
                <a:lnTo>
                  <a:pt x="3025" y="0"/>
                </a:lnTo>
                <a:lnTo>
                  <a:pt x="3020" y="48"/>
                </a:lnTo>
                <a:lnTo>
                  <a:pt x="3011" y="89"/>
                </a:lnTo>
                <a:lnTo>
                  <a:pt x="2999" y="124"/>
                </a:lnTo>
                <a:lnTo>
                  <a:pt x="2984" y="152"/>
                </a:lnTo>
                <a:lnTo>
                  <a:pt x="2968" y="182"/>
                </a:lnTo>
                <a:lnTo>
                  <a:pt x="2943" y="215"/>
                </a:lnTo>
                <a:lnTo>
                  <a:pt x="2922" y="241"/>
                </a:lnTo>
                <a:lnTo>
                  <a:pt x="2888" y="277"/>
                </a:lnTo>
                <a:lnTo>
                  <a:pt x="2853" y="309"/>
                </a:lnTo>
                <a:lnTo>
                  <a:pt x="2817" y="340"/>
                </a:lnTo>
                <a:lnTo>
                  <a:pt x="2775" y="372"/>
                </a:lnTo>
                <a:lnTo>
                  <a:pt x="2737" y="398"/>
                </a:lnTo>
                <a:lnTo>
                  <a:pt x="2676" y="435"/>
                </a:lnTo>
                <a:lnTo>
                  <a:pt x="2615" y="470"/>
                </a:lnTo>
                <a:lnTo>
                  <a:pt x="2525" y="513"/>
                </a:lnTo>
                <a:lnTo>
                  <a:pt x="2436" y="552"/>
                </a:lnTo>
                <a:lnTo>
                  <a:pt x="2346" y="588"/>
                </a:lnTo>
                <a:lnTo>
                  <a:pt x="2266" y="618"/>
                </a:lnTo>
                <a:lnTo>
                  <a:pt x="2152" y="656"/>
                </a:lnTo>
                <a:lnTo>
                  <a:pt x="2020" y="695"/>
                </a:lnTo>
                <a:lnTo>
                  <a:pt x="1889" y="727"/>
                </a:lnTo>
                <a:lnTo>
                  <a:pt x="1770" y="754"/>
                </a:lnTo>
                <a:lnTo>
                  <a:pt x="1689" y="772"/>
                </a:lnTo>
                <a:lnTo>
                  <a:pt x="1588" y="793"/>
                </a:lnTo>
                <a:lnTo>
                  <a:pt x="1514" y="807"/>
                </a:lnTo>
                <a:lnTo>
                  <a:pt x="1431" y="820"/>
                </a:lnTo>
                <a:lnTo>
                  <a:pt x="1347" y="834"/>
                </a:lnTo>
                <a:lnTo>
                  <a:pt x="1266" y="846"/>
                </a:lnTo>
                <a:lnTo>
                  <a:pt x="1158" y="861"/>
                </a:lnTo>
                <a:lnTo>
                  <a:pt x="1063" y="871"/>
                </a:lnTo>
                <a:lnTo>
                  <a:pt x="960" y="883"/>
                </a:lnTo>
                <a:lnTo>
                  <a:pt x="839" y="895"/>
                </a:lnTo>
                <a:lnTo>
                  <a:pt x="716" y="906"/>
                </a:lnTo>
                <a:lnTo>
                  <a:pt x="618" y="912"/>
                </a:lnTo>
                <a:lnTo>
                  <a:pt x="506" y="920"/>
                </a:lnTo>
                <a:lnTo>
                  <a:pt x="387" y="924"/>
                </a:lnTo>
                <a:lnTo>
                  <a:pt x="226" y="930"/>
                </a:lnTo>
                <a:lnTo>
                  <a:pt x="80" y="932"/>
                </a:lnTo>
                <a:lnTo>
                  <a:pt x="0" y="935"/>
                </a:lnTo>
                <a:lnTo>
                  <a:pt x="2" y="7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981080" y="1828800"/>
            <a:ext cx="58676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aghetti code</a:t>
            </a:r>
            <a:endParaRPr b="0" lang="en-US" sz="24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5" name=""/>
          <p:cNvCxnSpPr>
            <a:endCxn id="583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86" name=""/>
          <p:cNvCxnSpPr>
            <a:stCxn id="583" idx="2"/>
            <a:endCxn id="587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88" name=""/>
          <p:cNvCxnSpPr>
            <a:stCxn id="587" idx="2"/>
            <a:endCxn id="584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89" name=""/>
          <p:cNvCxnSpPr>
            <a:stCxn id="584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87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7" idx="3"/>
            <a:endCxn id="591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92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while (i &lt;= 10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ound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00200" y="23623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00200" y="320040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600200" y="472428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"/>
          <p:cNvCxnSpPr>
            <a:endCxn id="595" idx="0"/>
          </p:cNvCxnSpPr>
          <p:nvPr/>
        </p:nvCxnSpPr>
        <p:spPr>
          <a:xfrm>
            <a:off x="190476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99" name=""/>
          <p:cNvCxnSpPr>
            <a:stCxn id="595" idx="2"/>
            <a:endCxn id="596" idx="0"/>
          </p:cNvCxnSpPr>
          <p:nvPr/>
        </p:nvCxnSpPr>
        <p:spPr>
          <a:xfrm>
            <a:off x="1904760" y="2590560"/>
            <a:ext cx="1080" cy="6102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00" name=""/>
          <p:cNvCxnSpPr>
            <a:stCxn id="596" idx="2"/>
          </p:cNvCxnSpPr>
          <p:nvPr/>
        </p:nvCxnSpPr>
        <p:spPr>
          <a:xfrm>
            <a:off x="1905120" y="373392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01" name=""/>
          <p:cNvCxnSpPr>
            <a:stCxn id="602" idx="2"/>
            <a:endCxn id="597" idx="0"/>
          </p:cNvCxnSpPr>
          <p:nvPr/>
        </p:nvCxnSpPr>
        <p:spPr>
          <a:xfrm>
            <a:off x="1904760" y="44953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03" name=""/>
          <p:cNvCxnSpPr>
            <a:stCxn id="597" idx="2"/>
          </p:cNvCxnSpPr>
          <p:nvPr/>
        </p:nvCxnSpPr>
        <p:spPr>
          <a:xfrm>
            <a:off x="1904760" y="49528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02" name=""/>
          <p:cNvSpPr/>
          <p:nvPr/>
        </p:nvSpPr>
        <p:spPr>
          <a:xfrm>
            <a:off x="1600200" y="411480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"/>
          <p:cNvCxnSpPr>
            <a:stCxn id="602" idx="3"/>
          </p:cNvCxnSpPr>
          <p:nvPr/>
        </p:nvCxnSpPr>
        <p:spPr>
          <a:xfrm flipH="1" flipV="1">
            <a:off x="1904760" y="2818800"/>
            <a:ext cx="305280" cy="1486440"/>
          </a:xfrm>
          <a:prstGeom prst="bentConnector4">
            <a:avLst>
              <a:gd name="adj1" fmla="val -7497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05" name=""/>
          <p:cNvSpPr/>
          <p:nvPr/>
        </p:nvSpPr>
        <p:spPr>
          <a:xfrm>
            <a:off x="2445120" y="40384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ound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600200" y="23623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600200" y="3200400"/>
            <a:ext cx="609480" cy="53352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472428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endCxn id="607" idx="0"/>
          </p:cNvCxnSpPr>
          <p:nvPr/>
        </p:nvCxnSpPr>
        <p:spPr>
          <a:xfrm>
            <a:off x="190476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11" name=""/>
          <p:cNvCxnSpPr>
            <a:stCxn id="607" idx="2"/>
            <a:endCxn id="608" idx="0"/>
          </p:cNvCxnSpPr>
          <p:nvPr/>
        </p:nvCxnSpPr>
        <p:spPr>
          <a:xfrm>
            <a:off x="1904760" y="2590560"/>
            <a:ext cx="1080" cy="6102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12" name=""/>
          <p:cNvCxnSpPr>
            <a:stCxn id="608" idx="2"/>
          </p:cNvCxnSpPr>
          <p:nvPr/>
        </p:nvCxnSpPr>
        <p:spPr>
          <a:xfrm>
            <a:off x="1905120" y="373392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13" name=""/>
          <p:cNvCxnSpPr>
            <a:stCxn id="614" idx="2"/>
            <a:endCxn id="609" idx="0"/>
          </p:cNvCxnSpPr>
          <p:nvPr/>
        </p:nvCxnSpPr>
        <p:spPr>
          <a:xfrm>
            <a:off x="1904760" y="44953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609" idx="2"/>
          </p:cNvCxnSpPr>
          <p:nvPr/>
        </p:nvCxnSpPr>
        <p:spPr>
          <a:xfrm>
            <a:off x="1904760" y="49528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14" name=""/>
          <p:cNvSpPr/>
          <p:nvPr/>
        </p:nvSpPr>
        <p:spPr>
          <a:xfrm>
            <a:off x="1600200" y="411480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6" name=""/>
          <p:cNvCxnSpPr>
            <a:stCxn id="614" idx="3"/>
          </p:cNvCxnSpPr>
          <p:nvPr/>
        </p:nvCxnSpPr>
        <p:spPr>
          <a:xfrm flipH="1" flipV="1">
            <a:off x="1904760" y="2818800"/>
            <a:ext cx="305280" cy="1486440"/>
          </a:xfrm>
          <a:prstGeom prst="bentConnector4">
            <a:avLst>
              <a:gd name="adj1" fmla="val -7497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17" name=""/>
          <p:cNvSpPr/>
          <p:nvPr/>
        </p:nvSpPr>
        <p:spPr>
          <a:xfrm>
            <a:off x="2445120" y="40384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809880" y="3048120"/>
            <a:ext cx="609840" cy="53316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809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1" name=""/>
          <p:cNvCxnSpPr>
            <a:endCxn id="618" idx="0"/>
          </p:cNvCxnSpPr>
          <p:nvPr/>
        </p:nvCxnSpPr>
        <p:spPr>
          <a:xfrm>
            <a:off x="4114440" y="19807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8" idx="2"/>
            <a:endCxn id="619" idx="0"/>
          </p:cNvCxnSpPr>
          <p:nvPr/>
        </p:nvCxnSpPr>
        <p:spPr>
          <a:xfrm>
            <a:off x="4114440" y="2438280"/>
            <a:ext cx="1080" cy="6105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19" idx="2"/>
          </p:cNvCxnSpPr>
          <p:nvPr/>
        </p:nvCxnSpPr>
        <p:spPr>
          <a:xfrm>
            <a:off x="4114800" y="358128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25" idx="2"/>
            <a:endCxn id="620" idx="0"/>
          </p:cNvCxnSpPr>
          <p:nvPr/>
        </p:nvCxnSpPr>
        <p:spPr>
          <a:xfrm>
            <a:off x="4114440" y="43430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20" idx="2"/>
          </p:cNvCxnSpPr>
          <p:nvPr/>
        </p:nvCxnSpPr>
        <p:spPr>
          <a:xfrm>
            <a:off x="4114440" y="48006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25" name=""/>
          <p:cNvSpPr/>
          <p:nvPr/>
        </p:nvSpPr>
        <p:spPr>
          <a:xfrm>
            <a:off x="3809880" y="3962520"/>
            <a:ext cx="60984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7" name=""/>
          <p:cNvCxnSpPr>
            <a:stCxn id="625" idx="3"/>
          </p:cNvCxnSpPr>
          <p:nvPr/>
        </p:nvCxnSpPr>
        <p:spPr>
          <a:xfrm flipH="1" flipV="1">
            <a:off x="4114080" y="2666520"/>
            <a:ext cx="305640" cy="1486800"/>
          </a:xfrm>
          <a:prstGeom prst="bentConnector4">
            <a:avLst>
              <a:gd name="adj1" fmla="val -7500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28" name=""/>
          <p:cNvSpPr/>
          <p:nvPr/>
        </p:nvSpPr>
        <p:spPr>
          <a:xfrm>
            <a:off x="4655160" y="3886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971800" y="2057400"/>
            <a:ext cx="380880" cy="2819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362320" y="3276720"/>
            <a:ext cx="533160" cy="380880"/>
          </a:xfrm>
          <a:custGeom>
            <a:avLst/>
            <a:gdLst>
              <a:gd name="textAreaLeft" fmla="*/ 66600 w 533160"/>
              <a:gd name="textAreaRight" fmla="*/ 466560 w 5331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ound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00200" y="23623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600200" y="3200400"/>
            <a:ext cx="609480" cy="53352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00200" y="472428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endCxn id="632" idx="0"/>
          </p:cNvCxnSpPr>
          <p:nvPr/>
        </p:nvCxnSpPr>
        <p:spPr>
          <a:xfrm>
            <a:off x="190476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36" name=""/>
          <p:cNvCxnSpPr>
            <a:stCxn id="632" idx="2"/>
            <a:endCxn id="633" idx="0"/>
          </p:cNvCxnSpPr>
          <p:nvPr/>
        </p:nvCxnSpPr>
        <p:spPr>
          <a:xfrm>
            <a:off x="1904760" y="2590560"/>
            <a:ext cx="1080" cy="6102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37" name=""/>
          <p:cNvCxnSpPr>
            <a:stCxn id="633" idx="2"/>
          </p:cNvCxnSpPr>
          <p:nvPr/>
        </p:nvCxnSpPr>
        <p:spPr>
          <a:xfrm>
            <a:off x="1905120" y="373392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38" name=""/>
          <p:cNvCxnSpPr>
            <a:stCxn id="639" idx="2"/>
            <a:endCxn id="634" idx="0"/>
          </p:cNvCxnSpPr>
          <p:nvPr/>
        </p:nvCxnSpPr>
        <p:spPr>
          <a:xfrm>
            <a:off x="1904760" y="44953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40" name=""/>
          <p:cNvCxnSpPr>
            <a:stCxn id="634" idx="2"/>
          </p:cNvCxnSpPr>
          <p:nvPr/>
        </p:nvCxnSpPr>
        <p:spPr>
          <a:xfrm>
            <a:off x="1904760" y="49528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39" name=""/>
          <p:cNvSpPr/>
          <p:nvPr/>
        </p:nvSpPr>
        <p:spPr>
          <a:xfrm>
            <a:off x="1600200" y="411480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1" name=""/>
          <p:cNvCxnSpPr>
            <a:stCxn id="639" idx="3"/>
          </p:cNvCxnSpPr>
          <p:nvPr/>
        </p:nvCxnSpPr>
        <p:spPr>
          <a:xfrm flipH="1" flipV="1">
            <a:off x="1904760" y="2818800"/>
            <a:ext cx="305280" cy="1486440"/>
          </a:xfrm>
          <a:prstGeom prst="bentConnector4">
            <a:avLst>
              <a:gd name="adj1" fmla="val -7497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42" name=""/>
          <p:cNvSpPr/>
          <p:nvPr/>
        </p:nvSpPr>
        <p:spPr>
          <a:xfrm>
            <a:off x="2445120" y="40384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098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09880" y="3048120"/>
            <a:ext cx="609840" cy="53316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09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6" name=""/>
          <p:cNvCxnSpPr>
            <a:endCxn id="643" idx="0"/>
          </p:cNvCxnSpPr>
          <p:nvPr/>
        </p:nvCxnSpPr>
        <p:spPr>
          <a:xfrm>
            <a:off x="4114440" y="19807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47" name=""/>
          <p:cNvCxnSpPr>
            <a:stCxn id="643" idx="2"/>
            <a:endCxn id="644" idx="0"/>
          </p:cNvCxnSpPr>
          <p:nvPr/>
        </p:nvCxnSpPr>
        <p:spPr>
          <a:xfrm>
            <a:off x="4114440" y="2438280"/>
            <a:ext cx="1080" cy="6105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48" name=""/>
          <p:cNvCxnSpPr>
            <a:stCxn id="644" idx="2"/>
          </p:cNvCxnSpPr>
          <p:nvPr/>
        </p:nvCxnSpPr>
        <p:spPr>
          <a:xfrm>
            <a:off x="4114800" y="358128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49" name=""/>
          <p:cNvCxnSpPr>
            <a:stCxn id="650" idx="2"/>
            <a:endCxn id="645" idx="0"/>
          </p:cNvCxnSpPr>
          <p:nvPr/>
        </p:nvCxnSpPr>
        <p:spPr>
          <a:xfrm>
            <a:off x="4114440" y="43430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51" name=""/>
          <p:cNvCxnSpPr>
            <a:stCxn id="645" idx="2"/>
          </p:cNvCxnSpPr>
          <p:nvPr/>
        </p:nvCxnSpPr>
        <p:spPr>
          <a:xfrm>
            <a:off x="4114440" y="48006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50" name=""/>
          <p:cNvSpPr/>
          <p:nvPr/>
        </p:nvSpPr>
        <p:spPr>
          <a:xfrm>
            <a:off x="3809880" y="3962520"/>
            <a:ext cx="60984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2" name=""/>
          <p:cNvCxnSpPr>
            <a:stCxn id="650" idx="3"/>
          </p:cNvCxnSpPr>
          <p:nvPr/>
        </p:nvCxnSpPr>
        <p:spPr>
          <a:xfrm flipH="1" flipV="1">
            <a:off x="4114080" y="2666520"/>
            <a:ext cx="305640" cy="1486800"/>
          </a:xfrm>
          <a:prstGeom prst="bentConnector4">
            <a:avLst>
              <a:gd name="adj1" fmla="val -7500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53" name=""/>
          <p:cNvSpPr/>
          <p:nvPr/>
        </p:nvSpPr>
        <p:spPr>
          <a:xfrm>
            <a:off x="4655160" y="3886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971800" y="2057400"/>
            <a:ext cx="380880" cy="2819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362320" y="3276720"/>
            <a:ext cx="533160" cy="380880"/>
          </a:xfrm>
          <a:custGeom>
            <a:avLst/>
            <a:gdLst>
              <a:gd name="textAreaLeft" fmla="*/ 66600 w 533160"/>
              <a:gd name="textAreaRight" fmla="*/ 466560 w 5331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324480" y="23623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324480" y="3733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endCxn id="656" idx="0"/>
          </p:cNvCxnSpPr>
          <p:nvPr/>
        </p:nvCxnSpPr>
        <p:spPr>
          <a:xfrm>
            <a:off x="662904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6" idx="2"/>
          </p:cNvCxnSpPr>
          <p:nvPr/>
        </p:nvCxnSpPr>
        <p:spPr>
          <a:xfrm>
            <a:off x="6629040" y="259056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endCxn id="657" idx="0"/>
          </p:cNvCxnSpPr>
          <p:nvPr/>
        </p:nvCxnSpPr>
        <p:spPr>
          <a:xfrm>
            <a:off x="6629040" y="3581280"/>
            <a:ext cx="1080" cy="1533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1" name=""/>
          <p:cNvCxnSpPr>
            <a:stCxn id="657" idx="2"/>
          </p:cNvCxnSpPr>
          <p:nvPr/>
        </p:nvCxnSpPr>
        <p:spPr>
          <a:xfrm>
            <a:off x="6629040" y="39625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62" name=""/>
          <p:cNvSpPr/>
          <p:nvPr/>
        </p:nvSpPr>
        <p:spPr>
          <a:xfrm>
            <a:off x="6324480" y="27432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086600" y="312408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638680" y="3124080"/>
            <a:ext cx="609840" cy="22860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62" idx="3"/>
            <a:endCxn id="663" idx="0"/>
          </p:cNvCxnSpPr>
          <p:nvPr/>
        </p:nvCxnSpPr>
        <p:spPr>
          <a:xfrm>
            <a:off x="6934320" y="289512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6" name=""/>
          <p:cNvCxnSpPr>
            <a:stCxn id="662" idx="1"/>
            <a:endCxn id="664" idx="0"/>
          </p:cNvCxnSpPr>
          <p:nvPr/>
        </p:nvCxnSpPr>
        <p:spPr>
          <a:xfrm flipV="1" rot="10800000">
            <a:off x="5942880" y="289440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7" name=""/>
          <p:cNvCxnSpPr>
            <a:stCxn id="664" idx="2"/>
            <a:endCxn id="657" idx="0"/>
          </p:cNvCxnSpPr>
          <p:nvPr/>
        </p:nvCxnSpPr>
        <p:spPr>
          <a:xfrm flipH="1" rot="16200000">
            <a:off x="6094800" y="3200040"/>
            <a:ext cx="38196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8" name=""/>
          <p:cNvCxnSpPr>
            <a:stCxn id="663" idx="2"/>
            <a:endCxn id="657" idx="0"/>
          </p:cNvCxnSpPr>
          <p:nvPr/>
        </p:nvCxnSpPr>
        <p:spPr>
          <a:xfrm rot="5400000">
            <a:off x="6819120" y="3161880"/>
            <a:ext cx="3819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</a:ln>
        </p:spPr>
      </p:cxnSp>
      <p:sp>
        <p:nvSpPr>
          <p:cNvPr id="669" name=""/>
          <p:cNvSpPr/>
          <p:nvPr/>
        </p:nvSpPr>
        <p:spPr>
          <a:xfrm>
            <a:off x="5645520" y="25909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1726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572000" y="3124080"/>
            <a:ext cx="533520" cy="381240"/>
          </a:xfrm>
          <a:custGeom>
            <a:avLst/>
            <a:gdLst>
              <a:gd name="textAreaLeft" fmla="*/ 66600 w 533520"/>
              <a:gd name="textAreaRight" fmla="*/ 466920 w 5335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181480" y="1905120"/>
            <a:ext cx="381240" cy="2819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ound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600200" y="23623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600200" y="3200400"/>
            <a:ext cx="609480" cy="53352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00200" y="472428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7" name=""/>
          <p:cNvCxnSpPr>
            <a:endCxn id="674" idx="0"/>
          </p:cNvCxnSpPr>
          <p:nvPr/>
        </p:nvCxnSpPr>
        <p:spPr>
          <a:xfrm>
            <a:off x="190476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78" name=""/>
          <p:cNvCxnSpPr>
            <a:stCxn id="674" idx="2"/>
            <a:endCxn id="675" idx="0"/>
          </p:cNvCxnSpPr>
          <p:nvPr/>
        </p:nvCxnSpPr>
        <p:spPr>
          <a:xfrm>
            <a:off x="1904760" y="2590560"/>
            <a:ext cx="1080" cy="6102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79" name=""/>
          <p:cNvCxnSpPr>
            <a:stCxn id="675" idx="2"/>
          </p:cNvCxnSpPr>
          <p:nvPr/>
        </p:nvCxnSpPr>
        <p:spPr>
          <a:xfrm>
            <a:off x="1905120" y="373392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80" name=""/>
          <p:cNvCxnSpPr>
            <a:stCxn id="681" idx="2"/>
            <a:endCxn id="676" idx="0"/>
          </p:cNvCxnSpPr>
          <p:nvPr/>
        </p:nvCxnSpPr>
        <p:spPr>
          <a:xfrm>
            <a:off x="1904760" y="44953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82" name=""/>
          <p:cNvCxnSpPr>
            <a:stCxn id="676" idx="2"/>
          </p:cNvCxnSpPr>
          <p:nvPr/>
        </p:nvCxnSpPr>
        <p:spPr>
          <a:xfrm>
            <a:off x="1904760" y="49528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1600200" y="411480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81" idx="3"/>
          </p:cNvCxnSpPr>
          <p:nvPr/>
        </p:nvCxnSpPr>
        <p:spPr>
          <a:xfrm flipH="1" flipV="1">
            <a:off x="1904760" y="2818800"/>
            <a:ext cx="305280" cy="1486440"/>
          </a:xfrm>
          <a:prstGeom prst="bentConnector4">
            <a:avLst>
              <a:gd name="adj1" fmla="val -7497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>
            <a:off x="2445120" y="40384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098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809880" y="3048120"/>
            <a:ext cx="609840" cy="53316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809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8" name=""/>
          <p:cNvCxnSpPr>
            <a:endCxn id="685" idx="0"/>
          </p:cNvCxnSpPr>
          <p:nvPr/>
        </p:nvCxnSpPr>
        <p:spPr>
          <a:xfrm>
            <a:off x="4114440" y="19807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5" idx="2"/>
            <a:endCxn id="686" idx="0"/>
          </p:cNvCxnSpPr>
          <p:nvPr/>
        </p:nvCxnSpPr>
        <p:spPr>
          <a:xfrm>
            <a:off x="4114440" y="2438280"/>
            <a:ext cx="1080" cy="6105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6" idx="2"/>
          </p:cNvCxnSpPr>
          <p:nvPr/>
        </p:nvCxnSpPr>
        <p:spPr>
          <a:xfrm>
            <a:off x="4114800" y="358128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92" idx="2"/>
            <a:endCxn id="687" idx="0"/>
          </p:cNvCxnSpPr>
          <p:nvPr/>
        </p:nvCxnSpPr>
        <p:spPr>
          <a:xfrm>
            <a:off x="4114440" y="43430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93" name=""/>
          <p:cNvCxnSpPr>
            <a:stCxn id="687" idx="2"/>
          </p:cNvCxnSpPr>
          <p:nvPr/>
        </p:nvCxnSpPr>
        <p:spPr>
          <a:xfrm>
            <a:off x="4114440" y="48006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3809880" y="3962520"/>
            <a:ext cx="60984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2" idx="3"/>
          </p:cNvCxnSpPr>
          <p:nvPr/>
        </p:nvCxnSpPr>
        <p:spPr>
          <a:xfrm flipH="1" flipV="1">
            <a:off x="4114080" y="2666520"/>
            <a:ext cx="305640" cy="1486800"/>
          </a:xfrm>
          <a:prstGeom prst="bentConnector4">
            <a:avLst>
              <a:gd name="adj1" fmla="val -7500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4655160" y="3886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71800" y="2057400"/>
            <a:ext cx="380880" cy="2819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62320" y="3276720"/>
            <a:ext cx="533160" cy="380880"/>
          </a:xfrm>
          <a:custGeom>
            <a:avLst/>
            <a:gdLst>
              <a:gd name="textAreaLeft" fmla="*/ 66600 w 533160"/>
              <a:gd name="textAreaRight" fmla="*/ 466560 w 5331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324480" y="23623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324480" y="3733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0" name=""/>
          <p:cNvCxnSpPr>
            <a:endCxn id="698" idx="0"/>
          </p:cNvCxnSpPr>
          <p:nvPr/>
        </p:nvCxnSpPr>
        <p:spPr>
          <a:xfrm>
            <a:off x="662904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98" idx="2"/>
          </p:cNvCxnSpPr>
          <p:nvPr/>
        </p:nvCxnSpPr>
        <p:spPr>
          <a:xfrm>
            <a:off x="6629040" y="259056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endCxn id="699" idx="0"/>
          </p:cNvCxnSpPr>
          <p:nvPr/>
        </p:nvCxnSpPr>
        <p:spPr>
          <a:xfrm>
            <a:off x="6629040" y="3581280"/>
            <a:ext cx="1080" cy="1533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2"/>
          </p:cNvCxnSpPr>
          <p:nvPr/>
        </p:nvCxnSpPr>
        <p:spPr>
          <a:xfrm>
            <a:off x="6629040" y="39625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04" name=""/>
          <p:cNvSpPr/>
          <p:nvPr/>
        </p:nvSpPr>
        <p:spPr>
          <a:xfrm>
            <a:off x="6324480" y="27432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086600" y="312408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638680" y="3124080"/>
            <a:ext cx="609840" cy="22860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4" idx="3"/>
            <a:endCxn id="705" idx="0"/>
          </p:cNvCxnSpPr>
          <p:nvPr/>
        </p:nvCxnSpPr>
        <p:spPr>
          <a:xfrm>
            <a:off x="6934320" y="289512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704" idx="1"/>
            <a:endCxn id="706" idx="0"/>
          </p:cNvCxnSpPr>
          <p:nvPr/>
        </p:nvCxnSpPr>
        <p:spPr>
          <a:xfrm flipV="1" rot="10800000">
            <a:off x="5942880" y="289440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6" idx="2"/>
            <a:endCxn id="699" idx="0"/>
          </p:cNvCxnSpPr>
          <p:nvPr/>
        </p:nvCxnSpPr>
        <p:spPr>
          <a:xfrm flipH="1" rot="16200000">
            <a:off x="6094800" y="3200040"/>
            <a:ext cx="38196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705" idx="2"/>
            <a:endCxn id="699" idx="0"/>
          </p:cNvCxnSpPr>
          <p:nvPr/>
        </p:nvCxnSpPr>
        <p:spPr>
          <a:xfrm rot="5400000">
            <a:off x="6819120" y="3161880"/>
            <a:ext cx="3819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</a:ln>
        </p:spPr>
      </p:cxnSp>
      <p:sp>
        <p:nvSpPr>
          <p:cNvPr id="711" name=""/>
          <p:cNvSpPr/>
          <p:nvPr/>
        </p:nvSpPr>
        <p:spPr>
          <a:xfrm>
            <a:off x="5645520" y="25909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1726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72000" y="3124080"/>
            <a:ext cx="533520" cy="381240"/>
          </a:xfrm>
          <a:custGeom>
            <a:avLst/>
            <a:gdLst>
              <a:gd name="textAreaLeft" fmla="*/ 66600 w 533520"/>
              <a:gd name="textAreaRight" fmla="*/ 466920 w 5335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181480" y="1905120"/>
            <a:ext cx="381240" cy="2819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1905120" y="4191120"/>
            <a:ext cx="6248160" cy="21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ierarch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n-Hierarchial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581280" y="3657600"/>
            <a:ext cx="60984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7" idx="1"/>
            <a:endCxn id="719" idx="0"/>
          </p:cNvCxnSpPr>
          <p:nvPr/>
        </p:nvCxnSpPr>
        <p:spPr>
          <a:xfrm flipH="1" rot="10800000">
            <a:off x="3580920" y="2285280"/>
            <a:ext cx="991440" cy="1562760"/>
          </a:xfrm>
          <a:prstGeom prst="bentConnector4">
            <a:avLst>
              <a:gd name="adj1" fmla="val -23065"/>
              <a:gd name="adj2" fmla="val 114631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20" name=""/>
          <p:cNvSpPr/>
          <p:nvPr/>
        </p:nvSpPr>
        <p:spPr>
          <a:xfrm>
            <a:off x="2597760" y="38098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267080" y="2286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67080" y="50292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endCxn id="719" idx="0"/>
          </p:cNvCxnSpPr>
          <p:nvPr/>
        </p:nvCxnSpPr>
        <p:spPr>
          <a:xfrm>
            <a:off x="4571640" y="20570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23" name=""/>
          <p:cNvCxnSpPr>
            <a:stCxn id="719" idx="2"/>
          </p:cNvCxnSpPr>
          <p:nvPr/>
        </p:nvCxnSpPr>
        <p:spPr>
          <a:xfrm>
            <a:off x="4571640" y="25142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24" name=""/>
          <p:cNvCxnSpPr>
            <a:stCxn id="721" idx="2"/>
          </p:cNvCxnSpPr>
          <p:nvPr/>
        </p:nvCxnSpPr>
        <p:spPr>
          <a:xfrm>
            <a:off x="4571640" y="52578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4267080" y="266688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029200" y="304812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581280" y="3048120"/>
            <a:ext cx="609840" cy="22860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8" name=""/>
          <p:cNvCxnSpPr>
            <a:stCxn id="725" idx="3"/>
            <a:endCxn id="726" idx="0"/>
          </p:cNvCxnSpPr>
          <p:nvPr/>
        </p:nvCxnSpPr>
        <p:spPr>
          <a:xfrm>
            <a:off x="4876920" y="281916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29" name=""/>
          <p:cNvCxnSpPr>
            <a:stCxn id="725" idx="1"/>
            <a:endCxn id="727" idx="0"/>
          </p:cNvCxnSpPr>
          <p:nvPr/>
        </p:nvCxnSpPr>
        <p:spPr>
          <a:xfrm flipV="1" rot="10800000">
            <a:off x="3885480" y="281844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30" name=""/>
          <p:cNvSpPr/>
          <p:nvPr/>
        </p:nvSpPr>
        <p:spPr>
          <a:xfrm>
            <a:off x="3588120" y="25146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115240" y="25146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2" name=""/>
          <p:cNvCxnSpPr>
            <a:stCxn id="727" idx="2"/>
            <a:endCxn id="717" idx="0"/>
          </p:cNvCxnSpPr>
          <p:nvPr/>
        </p:nvCxnSpPr>
        <p:spPr>
          <a:xfrm>
            <a:off x="3885840" y="3276720"/>
            <a:ext cx="1080" cy="3816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33" name=""/>
          <p:cNvCxnSpPr/>
          <p:nvPr/>
        </p:nvCxnSpPr>
        <p:spPr>
          <a:xfrm rot="5400000">
            <a:off x="4075920" y="3771720"/>
            <a:ext cx="1753200" cy="762840"/>
          </a:xfrm>
          <a:prstGeom prst="bentConnector3">
            <a:avLst>
              <a:gd name="adj1" fmla="val 71452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34" name=""/>
          <p:cNvCxnSpPr>
            <a:stCxn id="717" idx="2"/>
          </p:cNvCxnSpPr>
          <p:nvPr/>
        </p:nvCxnSpPr>
        <p:spPr>
          <a:xfrm flipH="1" rot="16200000">
            <a:off x="3961440" y="3962160"/>
            <a:ext cx="534240" cy="68652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n-Hierarchial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581280" y="3657600"/>
            <a:ext cx="60984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"/>
          <p:cNvCxnSpPr>
            <a:stCxn id="736" idx="1"/>
            <a:endCxn id="738" idx="0"/>
          </p:cNvCxnSpPr>
          <p:nvPr/>
        </p:nvCxnSpPr>
        <p:spPr>
          <a:xfrm flipH="1" rot="10800000">
            <a:off x="3580920" y="2285280"/>
            <a:ext cx="991440" cy="1562760"/>
          </a:xfrm>
          <a:prstGeom prst="bentConnector4">
            <a:avLst>
              <a:gd name="adj1" fmla="val -23065"/>
              <a:gd name="adj2" fmla="val 114631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2597760" y="38098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267080" y="2286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267080" y="50292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endCxn id="738" idx="0"/>
          </p:cNvCxnSpPr>
          <p:nvPr/>
        </p:nvCxnSpPr>
        <p:spPr>
          <a:xfrm>
            <a:off x="4571640" y="20570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42" name=""/>
          <p:cNvCxnSpPr>
            <a:stCxn id="738" idx="2"/>
          </p:cNvCxnSpPr>
          <p:nvPr/>
        </p:nvCxnSpPr>
        <p:spPr>
          <a:xfrm>
            <a:off x="4571640" y="25142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43" name=""/>
          <p:cNvCxnSpPr>
            <a:stCxn id="740" idx="2"/>
          </p:cNvCxnSpPr>
          <p:nvPr/>
        </p:nvCxnSpPr>
        <p:spPr>
          <a:xfrm>
            <a:off x="4571640" y="52578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44" name=""/>
          <p:cNvSpPr/>
          <p:nvPr/>
        </p:nvSpPr>
        <p:spPr>
          <a:xfrm>
            <a:off x="4267080" y="266688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304812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581280" y="3048120"/>
            <a:ext cx="609840" cy="22860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44" idx="3"/>
            <a:endCxn id="745" idx="0"/>
          </p:cNvCxnSpPr>
          <p:nvPr/>
        </p:nvCxnSpPr>
        <p:spPr>
          <a:xfrm>
            <a:off x="4876920" y="281916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48" name=""/>
          <p:cNvCxnSpPr>
            <a:stCxn id="744" idx="1"/>
            <a:endCxn id="746" idx="0"/>
          </p:cNvCxnSpPr>
          <p:nvPr/>
        </p:nvCxnSpPr>
        <p:spPr>
          <a:xfrm flipV="1" rot="10800000">
            <a:off x="3885480" y="281844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49" name=""/>
          <p:cNvSpPr/>
          <p:nvPr/>
        </p:nvSpPr>
        <p:spPr>
          <a:xfrm>
            <a:off x="3588120" y="25146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15240" y="25146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1" name=""/>
          <p:cNvCxnSpPr>
            <a:stCxn id="746" idx="2"/>
            <a:endCxn id="736" idx="0"/>
          </p:cNvCxnSpPr>
          <p:nvPr/>
        </p:nvCxnSpPr>
        <p:spPr>
          <a:xfrm>
            <a:off x="3885840" y="3276720"/>
            <a:ext cx="1080" cy="3816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52" name=""/>
          <p:cNvCxnSpPr/>
          <p:nvPr/>
        </p:nvCxnSpPr>
        <p:spPr>
          <a:xfrm rot="5400000">
            <a:off x="4075920" y="3771720"/>
            <a:ext cx="1753200" cy="762840"/>
          </a:xfrm>
          <a:prstGeom prst="bentConnector3">
            <a:avLst>
              <a:gd name="adj1" fmla="val 71452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53" name=""/>
          <p:cNvCxnSpPr>
            <a:stCxn id="736" idx="2"/>
          </p:cNvCxnSpPr>
          <p:nvPr/>
        </p:nvCxnSpPr>
        <p:spPr>
          <a:xfrm flipH="1" rot="16200000">
            <a:off x="3961440" y="3962160"/>
            <a:ext cx="534240" cy="68652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754" name=""/>
          <p:cNvSpPr txBox="1"/>
          <p:nvPr/>
        </p:nvSpPr>
        <p:spPr>
          <a:xfrm>
            <a:off x="3276720" y="2133720"/>
            <a:ext cx="2081160" cy="23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a50021"/>
                    </a:gs>
                  </a:gsLst>
                  <a:lin ang="5400000"/>
                </a:gradFill>
                <a:latin typeface="Comic Sans MS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a50021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5" name=""/>
          <p:cNvGraphicFramePr/>
          <p:nvPr/>
        </p:nvGraphicFramePr>
        <p:xfrm>
          <a:off x="0" y="1123920"/>
          <a:ext cx="8926560" cy="45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3920"/>
                    <a:ext cx="89265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jkestra’s Control F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205740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243828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28195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320040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endCxn id="192" idx="0"/>
          </p:cNvCxnSpPr>
          <p:nvPr/>
        </p:nvCxnSpPr>
        <p:spPr>
          <a:xfrm>
            <a:off x="5562360" y="18284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2" idx="2"/>
            <a:endCxn id="193" idx="0"/>
          </p:cNvCxnSpPr>
          <p:nvPr/>
        </p:nvCxnSpPr>
        <p:spPr>
          <a:xfrm>
            <a:off x="5562360" y="2285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3" idx="2"/>
            <a:endCxn id="194" idx="0"/>
          </p:cNvCxnSpPr>
          <p:nvPr/>
        </p:nvCxnSpPr>
        <p:spPr>
          <a:xfrm>
            <a:off x="5562360" y="2666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4" idx="2"/>
            <a:endCxn id="195" idx="0"/>
          </p:cNvCxnSpPr>
          <p:nvPr/>
        </p:nvCxnSpPr>
        <p:spPr>
          <a:xfrm>
            <a:off x="5562360" y="3047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5" idx="2"/>
          </p:cNvCxnSpPr>
          <p:nvPr/>
        </p:nvCxnSpPr>
        <p:spPr>
          <a:xfrm>
            <a:off x="5562360" y="34290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jkstra’s Control F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imple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25909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39625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endCxn id="203" idx="0"/>
          </p:cNvCxnSpPr>
          <p:nvPr/>
        </p:nvCxnSpPr>
        <p:spPr>
          <a:xfrm>
            <a:off x="5562360" y="23619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3" idx="2"/>
          </p:cNvCxnSpPr>
          <p:nvPr/>
        </p:nvCxnSpPr>
        <p:spPr>
          <a:xfrm>
            <a:off x="5562360" y="281916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endCxn id="204" idx="0"/>
          </p:cNvCxnSpPr>
          <p:nvPr/>
        </p:nvCxnSpPr>
        <p:spPr>
          <a:xfrm>
            <a:off x="5562360" y="3809880"/>
            <a:ext cx="1080" cy="1533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204" idx="2"/>
          </p:cNvCxnSpPr>
          <p:nvPr/>
        </p:nvCxnSpPr>
        <p:spPr>
          <a:xfrm>
            <a:off x="5562360" y="41911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5257800" y="2971800"/>
            <a:ext cx="60948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9920" y="335268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3352680"/>
            <a:ext cx="609480" cy="22860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209" idx="3"/>
            <a:endCxn id="210" idx="0"/>
          </p:cNvCxnSpPr>
          <p:nvPr/>
        </p:nvCxnSpPr>
        <p:spPr>
          <a:xfrm>
            <a:off x="5867280" y="312372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9" idx="1"/>
            <a:endCxn id="211" idx="0"/>
          </p:cNvCxnSpPr>
          <p:nvPr/>
        </p:nvCxnSpPr>
        <p:spPr>
          <a:xfrm flipV="1" rot="10800000">
            <a:off x="4876200" y="312300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11" idx="2"/>
            <a:endCxn id="204" idx="0"/>
          </p:cNvCxnSpPr>
          <p:nvPr/>
        </p:nvCxnSpPr>
        <p:spPr>
          <a:xfrm flipH="1" rot="16200000">
            <a:off x="5028120" y="3428640"/>
            <a:ext cx="38196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10" idx="2"/>
            <a:endCxn id="204" idx="0"/>
          </p:cNvCxnSpPr>
          <p:nvPr/>
        </p:nvCxnSpPr>
        <p:spPr>
          <a:xfrm rot="5400000">
            <a:off x="5752440" y="3390840"/>
            <a:ext cx="381960" cy="76248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</a:ln>
        </p:spPr>
      </p:cxnSp>
      <p:sp>
        <p:nvSpPr>
          <p:cNvPr id="216" name=""/>
          <p:cNvSpPr/>
          <p:nvPr/>
        </p:nvSpPr>
        <p:spPr>
          <a:xfrm>
            <a:off x="4578840" y="28195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05600" y="28195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jkestra’s Control F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4120" y="274320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4120" y="3429000"/>
            <a:ext cx="60948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46483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endCxn id="219" idx="0"/>
          </p:cNvCxnSpPr>
          <p:nvPr/>
        </p:nvCxnSpPr>
        <p:spPr>
          <a:xfrm>
            <a:off x="5638320" y="25142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9" idx="2"/>
            <a:endCxn id="220" idx="0"/>
          </p:cNvCxnSpPr>
          <p:nvPr/>
        </p:nvCxnSpPr>
        <p:spPr>
          <a:xfrm>
            <a:off x="5638320" y="29718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20" idx="2"/>
          </p:cNvCxnSpPr>
          <p:nvPr/>
        </p:nvCxnSpPr>
        <p:spPr>
          <a:xfrm>
            <a:off x="5638320" y="3657240"/>
            <a:ext cx="1080" cy="3056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6" idx="2"/>
            <a:endCxn id="221" idx="0"/>
          </p:cNvCxnSpPr>
          <p:nvPr/>
        </p:nvCxnSpPr>
        <p:spPr>
          <a:xfrm>
            <a:off x="5638320" y="4343040"/>
            <a:ext cx="1080" cy="3056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1" idx="2"/>
          </p:cNvCxnSpPr>
          <p:nvPr/>
        </p:nvCxnSpPr>
        <p:spPr>
          <a:xfrm>
            <a:off x="5638320" y="48769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5334120" y="396252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3"/>
          </p:cNvCxnSpPr>
          <p:nvPr/>
        </p:nvCxnSpPr>
        <p:spPr>
          <a:xfrm flipH="1" flipV="1">
            <a:off x="5637960" y="3123720"/>
            <a:ext cx="305640" cy="1029600"/>
          </a:xfrm>
          <a:prstGeom prst="bentConnector4">
            <a:avLst>
              <a:gd name="adj1" fmla="val -225000"/>
              <a:gd name="adj2" fmla="val 98146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imple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2590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29718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3352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endCxn id="231" idx="0"/>
          </p:cNvCxnSpPr>
          <p:nvPr/>
        </p:nvCxnSpPr>
        <p:spPr>
          <a:xfrm>
            <a:off x="6629040" y="1980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1" idx="2"/>
            <a:endCxn id="232" idx="0"/>
          </p:cNvCxnSpPr>
          <p:nvPr/>
        </p:nvCxnSpPr>
        <p:spPr>
          <a:xfrm>
            <a:off x="662904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2" idx="2"/>
            <a:endCxn id="233" idx="0"/>
          </p:cNvCxnSpPr>
          <p:nvPr/>
        </p:nvCxnSpPr>
        <p:spPr>
          <a:xfrm>
            <a:off x="6629040" y="2819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3" idx="2"/>
            <a:endCxn id="234" idx="0"/>
          </p:cNvCxnSpPr>
          <p:nvPr/>
        </p:nvCxnSpPr>
        <p:spPr>
          <a:xfrm>
            <a:off x="6629040" y="3200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4" idx="2"/>
          </p:cNvCxnSpPr>
          <p:nvPr/>
        </p:nvCxnSpPr>
        <p:spPr>
          <a:xfrm>
            <a:off x="6629040" y="35812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914400" y="2133720"/>
            <a:ext cx="44197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“i = “ &lt;&lt;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24480" y="220968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24480" y="2590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29718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24480" y="3352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endCxn id="242" idx="0"/>
          </p:cNvCxnSpPr>
          <p:nvPr/>
        </p:nvCxnSpPr>
        <p:spPr>
          <a:xfrm>
            <a:off x="6629040" y="1980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42" idx="2"/>
            <a:endCxn id="243" idx="0"/>
          </p:cNvCxnSpPr>
          <p:nvPr/>
        </p:nvCxnSpPr>
        <p:spPr>
          <a:xfrm>
            <a:off x="662904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43" idx="2"/>
            <a:endCxn id="244" idx="0"/>
          </p:cNvCxnSpPr>
          <p:nvPr/>
        </p:nvCxnSpPr>
        <p:spPr>
          <a:xfrm>
            <a:off x="6629040" y="2819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4" idx="2"/>
            <a:endCxn id="245" idx="0"/>
          </p:cNvCxnSpPr>
          <p:nvPr/>
        </p:nvCxnSpPr>
        <p:spPr>
          <a:xfrm>
            <a:off x="6629040" y="3200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5" idx="2"/>
          </p:cNvCxnSpPr>
          <p:nvPr/>
        </p:nvCxnSpPr>
        <p:spPr>
          <a:xfrm>
            <a:off x="6629040" y="35812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914400" y="2133720"/>
            <a:ext cx="44197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“i = “ &lt;&lt;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244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24480" y="259092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29718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24480" y="3352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endCxn id="253" idx="0"/>
          </p:cNvCxnSpPr>
          <p:nvPr/>
        </p:nvCxnSpPr>
        <p:spPr>
          <a:xfrm>
            <a:off x="6629040" y="1980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53" idx="2"/>
            <a:endCxn id="254" idx="0"/>
          </p:cNvCxnSpPr>
          <p:nvPr/>
        </p:nvCxnSpPr>
        <p:spPr>
          <a:xfrm>
            <a:off x="662904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54" idx="2"/>
            <a:endCxn id="255" idx="0"/>
          </p:cNvCxnSpPr>
          <p:nvPr/>
        </p:nvCxnSpPr>
        <p:spPr>
          <a:xfrm>
            <a:off x="6629040" y="2819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5" idx="2"/>
            <a:endCxn id="256" idx="0"/>
          </p:cNvCxnSpPr>
          <p:nvPr/>
        </p:nvCxnSpPr>
        <p:spPr>
          <a:xfrm>
            <a:off x="6629040" y="3200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6" idx="2"/>
          </p:cNvCxnSpPr>
          <p:nvPr/>
        </p:nvCxnSpPr>
        <p:spPr>
          <a:xfrm>
            <a:off x="6629040" y="35812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914400" y="2133720"/>
            <a:ext cx="44197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“i = “ &lt;&lt;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0T14:12:05Z</dcterms:created>
  <dc:creator>Michael Bruce-Lockhart</dc:creator>
  <dc:description/>
  <dc:language>en-US</dc:language>
  <cp:lastModifiedBy>Michael Bruce-Lockhart</cp:lastModifiedBy>
  <dcterms:modified xsi:type="dcterms:W3CDTF">2004-01-16T15:09:30Z</dcterms:modified>
  <cp:revision>16</cp:revision>
  <dc:subject/>
  <dc:title>No Slide Title</dc:title>
</cp:coreProperties>
</file>