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B32-A57C-4D7A-94C7-D9D48CFD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A90-C006-447E-ABCB-A6AE5CF0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7D8-CAA0-402A-B386-92CC2063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9EF-C376-4930-AD5E-CA27B165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41D-0DFE-41DA-AB89-892EED87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C19-7310-4673-933E-912082CC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EFC-FB92-432A-AE0F-562E2AC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077-7FD6-4DDC-B8D5-5226433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E2C-F26E-4162-8E54-4F9E219E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38A-5315-427B-8AA8-59BE63C7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30C-DBF2-4962-A6D2-DE079C4D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134-CC24-4772-B0BF-785DF78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365E-BBF5-4034-8027-8FE110FE2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123920"/>
          <a:ext cx="8926560" cy="45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89265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endCxn id="264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4" idx="2"/>
            <a:endCxn id="265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6" idx="2"/>
            <a:endCxn id="267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7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endCxn id="275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76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6" idx="2"/>
            <a:endCxn id="277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7" idx="2"/>
            <a:endCxn id="278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8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endCxn id="286" idx="0"/>
          </p:cNvCxnSpPr>
          <p:nvPr/>
        </p:nvCxnSpPr>
        <p:spPr>
          <a:xfrm>
            <a:off x="64004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6" idx="2"/>
          </p:cNvCxnSpPr>
          <p:nvPr/>
        </p:nvCxnSpPr>
        <p:spPr>
          <a:xfrm>
            <a:off x="64004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endCxn id="287" idx="0"/>
          </p:cNvCxnSpPr>
          <p:nvPr/>
        </p:nvCxnSpPr>
        <p:spPr>
          <a:xfrm>
            <a:off x="64004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7" idx="2"/>
          </p:cNvCxnSpPr>
          <p:nvPr/>
        </p:nvCxnSpPr>
        <p:spPr>
          <a:xfrm>
            <a:off x="64004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60958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3124080"/>
            <a:ext cx="60984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2" idx="3"/>
            <a:endCxn id="293" idx="0"/>
          </p:cNvCxnSpPr>
          <p:nvPr/>
        </p:nvCxnSpPr>
        <p:spPr>
          <a:xfrm>
            <a:off x="67057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1"/>
            <a:endCxn id="294" idx="0"/>
          </p:cNvCxnSpPr>
          <p:nvPr/>
        </p:nvCxnSpPr>
        <p:spPr>
          <a:xfrm flipV="1" rot="10800000">
            <a:off x="57142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4" idx="2"/>
            <a:endCxn id="287" idx="0"/>
          </p:cNvCxnSpPr>
          <p:nvPr/>
        </p:nvCxnSpPr>
        <p:spPr>
          <a:xfrm flipH="1" rot="16200000">
            <a:off x="58662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3" idx="2"/>
            <a:endCxn id="287" idx="0"/>
          </p:cNvCxnSpPr>
          <p:nvPr/>
        </p:nvCxnSpPr>
        <p:spPr>
          <a:xfrm rot="5400000">
            <a:off x="65905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4169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endCxn id="30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303" idx="2"/>
            <a:endCxn id="30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0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7" idx="3"/>
            <a:endCxn id="31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10" idx="2"/>
            <a:endCxn id="30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07" idx="2"/>
            <a:endCxn id="31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3" idx="2"/>
            <a:endCxn id="32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27" idx="3"/>
            <a:endCxn id="33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2"/>
            <a:endCxn id="32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7" idx="2"/>
            <a:endCxn id="33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endCxn id="34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3" idx="2"/>
            <a:endCxn id="34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7" idx="3"/>
            <a:endCxn id="35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0" idx="2"/>
            <a:endCxn id="34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(imaginary &lt; 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7" idx="2"/>
            <a:endCxn id="35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endCxn id="36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3" idx="2"/>
            <a:endCxn id="36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67" idx="3"/>
            <a:endCxn id="37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2"/>
            <a:endCxn id="36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7" idx="2"/>
            <a:endCxn id="37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endCxn id="38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83" idx="2"/>
            <a:endCxn id="38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8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87" idx="3"/>
            <a:endCxn id="39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90" idx="2"/>
            <a:endCxn id="38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87" idx="2"/>
            <a:endCxn id="39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endCxn id="40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403" idx="2"/>
            <a:endCxn id="40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07" idx="3"/>
            <a:endCxn id="41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0" idx="2"/>
            <a:endCxn id="40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07" idx="2"/>
            <a:endCxn id="41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endCxn id="42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3" idx="2"/>
            <a:endCxn id="42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7" idx="3"/>
            <a:endCxn id="43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0" idx="2"/>
            <a:endCxn id="42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(imaginary &lt; 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27" idx="2"/>
            <a:endCxn id="43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00800" y="8380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152280"/>
            <a:ext cx="990360" cy="3812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2819520"/>
            <a:ext cx="8384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600200"/>
            <a:ext cx="106668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733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Pa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K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ympathetic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3434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1814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H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914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i +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724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red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to gra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5" idx="2"/>
            <a:endCxn id="47" idx="0"/>
          </p:cNvCxnSpPr>
          <p:nvPr/>
        </p:nvCxnSpPr>
        <p:spPr>
          <a:xfrm>
            <a:off x="4000320" y="3352320"/>
            <a:ext cx="1080" cy="381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7" idx="2"/>
            <a:endCxn id="54" idx="0"/>
          </p:cNvCxnSpPr>
          <p:nvPr/>
        </p:nvCxnSpPr>
        <p:spPr>
          <a:xfrm>
            <a:off x="4000320" y="434340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4" idx="3"/>
            <a:endCxn id="53" idx="1"/>
          </p:cNvCxnSpPr>
          <p:nvPr/>
        </p:nvCxnSpPr>
        <p:spPr>
          <a:xfrm>
            <a:off x="4571640" y="5029200"/>
            <a:ext cx="686520" cy="38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0"/>
            <a:endCxn id="48" idx="2"/>
          </p:cNvCxnSpPr>
          <p:nvPr/>
        </p:nvCxnSpPr>
        <p:spPr>
          <a:xfrm flipV="1">
            <a:off x="5676480" y="426672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172200" y="3962520"/>
            <a:ext cx="685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8" idx="0"/>
          </p:cNvCxnSpPr>
          <p:nvPr/>
        </p:nvCxnSpPr>
        <p:spPr>
          <a:xfrm flipH="1" flipV="1">
            <a:off x="5638320" y="2513880"/>
            <a:ext cx="38880" cy="1143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93432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6019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56386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l 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Off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2"/>
            <a:endCxn id="61" idx="0"/>
          </p:cNvCxnSpPr>
          <p:nvPr/>
        </p:nvCxnSpPr>
        <p:spPr>
          <a:xfrm>
            <a:off x="7353000" y="426708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1" idx="2"/>
            <a:endCxn id="62" idx="3"/>
          </p:cNvCxnSpPr>
          <p:nvPr/>
        </p:nvCxnSpPr>
        <p:spPr>
          <a:xfrm rot="5400000">
            <a:off x="4476240" y="3447720"/>
            <a:ext cx="991080" cy="47631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2" idx="2"/>
            <a:endCxn id="67" idx="0"/>
          </p:cNvCxnSpPr>
          <p:nvPr/>
        </p:nvCxnSpPr>
        <p:spPr>
          <a:xfrm flipH="1" flipV="1" rot="5400000">
            <a:off x="-724320" y="3428640"/>
            <a:ext cx="5944320" cy="457920"/>
          </a:xfrm>
          <a:prstGeom prst="bentConnector5">
            <a:avLst>
              <a:gd name="adj1" fmla="val -2240"/>
              <a:gd name="adj2" fmla="val -297167"/>
              <a:gd name="adj3" fmla="val 103845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1981080" y="685800"/>
            <a:ext cx="990720" cy="4572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1295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05120"/>
            <a:ext cx="838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8" idx="3"/>
            <a:endCxn id="69" idx="0"/>
          </p:cNvCxnSpPr>
          <p:nvPr/>
        </p:nvCxnSpPr>
        <p:spPr>
          <a:xfrm>
            <a:off x="3048120" y="1599840"/>
            <a:ext cx="953280" cy="3056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2"/>
          </p:cNvCxnSpPr>
          <p:nvPr/>
        </p:nvCxnSpPr>
        <p:spPr>
          <a:xfrm rot="5400000">
            <a:off x="1009080" y="2876400"/>
            <a:ext cx="243900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47" idx="1"/>
          </p:cNvCxnSpPr>
          <p:nvPr/>
        </p:nvCxnSpPr>
        <p:spPr>
          <a:xfrm flipH="1">
            <a:off x="1980720" y="4038120"/>
            <a:ext cx="14486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0" idx="2"/>
            <a:endCxn id="51" idx="0"/>
          </p:cNvCxnSpPr>
          <p:nvPr/>
        </p:nvCxnSpPr>
        <p:spPr>
          <a:xfrm>
            <a:off x="2018880" y="48769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1" idx="2"/>
            <a:endCxn id="62" idx="0"/>
          </p:cNvCxnSpPr>
          <p:nvPr/>
        </p:nvCxnSpPr>
        <p:spPr>
          <a:xfrm>
            <a:off x="2018880" y="5790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1"/>
          </p:cNvCxnSpPr>
          <p:nvPr/>
        </p:nvCxnSpPr>
        <p:spPr>
          <a:xfrm rot="10800000">
            <a:off x="2818800" y="4037760"/>
            <a:ext cx="610200" cy="19058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54" idx="2"/>
            <a:endCxn id="63" idx="0"/>
          </p:cNvCxnSpPr>
          <p:nvPr/>
        </p:nvCxnSpPr>
        <p:spPr>
          <a:xfrm>
            <a:off x="4000320" y="53341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7924680" y="6172200"/>
            <a:ext cx="9907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40 year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ortgages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ar lo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63" idx="3"/>
            <a:endCxn id="77" idx="0"/>
          </p:cNvCxnSpPr>
          <p:nvPr/>
        </p:nvCxnSpPr>
        <p:spPr>
          <a:xfrm>
            <a:off x="4571640" y="5943240"/>
            <a:ext cx="384876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9" idx="2"/>
            <a:endCxn id="45" idx="0"/>
          </p:cNvCxnSpPr>
          <p:nvPr/>
        </p:nvCxnSpPr>
        <p:spPr>
          <a:xfrm>
            <a:off x="4000320" y="228600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49" idx="0"/>
          </p:cNvCxnSpPr>
          <p:nvPr/>
        </p:nvCxnSpPr>
        <p:spPr>
          <a:xfrm flipV="1" rot="16200000">
            <a:off x="5123880" y="1427760"/>
            <a:ext cx="1143720" cy="331560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4" idx="2"/>
            <a:endCxn id="43" idx="0"/>
          </p:cNvCxnSpPr>
          <p:nvPr/>
        </p:nvCxnSpPr>
        <p:spPr>
          <a:xfrm>
            <a:off x="6972120" y="5335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3" idx="1"/>
            <a:endCxn id="52" idx="3"/>
          </p:cNvCxnSpPr>
          <p:nvPr/>
        </p:nvCxnSpPr>
        <p:spPr>
          <a:xfrm flipH="1">
            <a:off x="5790600" y="1142640"/>
            <a:ext cx="61020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924680" y="2133720"/>
            <a:ext cx="914400" cy="3808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43" idx="3"/>
            <a:endCxn id="83" idx="0"/>
          </p:cNvCxnSpPr>
          <p:nvPr/>
        </p:nvCxnSpPr>
        <p:spPr>
          <a:xfrm>
            <a:off x="7543800" y="1143000"/>
            <a:ext cx="838800" cy="9914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2" idx="2"/>
            <a:endCxn id="46" idx="0"/>
          </p:cNvCxnSpPr>
          <p:nvPr/>
        </p:nvCxnSpPr>
        <p:spPr>
          <a:xfrm>
            <a:off x="5409720" y="1371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46" idx="2"/>
          </p:cNvCxnSpPr>
          <p:nvPr/>
        </p:nvCxnSpPr>
        <p:spPr>
          <a:xfrm>
            <a:off x="5409720" y="220932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46" idx="3"/>
          </p:cNvCxnSpPr>
          <p:nvPr/>
        </p:nvCxnSpPr>
        <p:spPr>
          <a:xfrm>
            <a:off x="5943240" y="1904760"/>
            <a:ext cx="610200" cy="20577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7" idx="2"/>
            <a:endCxn id="68" idx="0"/>
          </p:cNvCxnSpPr>
          <p:nvPr/>
        </p:nvCxnSpPr>
        <p:spPr>
          <a:xfrm>
            <a:off x="2476080" y="11426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5146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715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1" idx="3"/>
          </p:cNvCxnSpPr>
          <p:nvPr/>
        </p:nvCxnSpPr>
        <p:spPr>
          <a:xfrm>
            <a:off x="2590560" y="5486040"/>
            <a:ext cx="229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62" idx="1"/>
          </p:cNvCxnSpPr>
          <p:nvPr/>
        </p:nvCxnSpPr>
        <p:spPr>
          <a:xfrm flipH="1" rot="10800000">
            <a:off x="1446840" y="4037760"/>
            <a:ext cx="533880" cy="2286720"/>
          </a:xfrm>
          <a:prstGeom prst="bentConnector4">
            <a:avLst>
              <a:gd name="adj1" fmla="val -42847"/>
              <a:gd name="adj2" fmla="val 10096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543800" y="838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4267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733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5105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94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3962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00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33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715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3" idx="2"/>
            <a:endCxn id="44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7" idx="3"/>
            <a:endCxn id="45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50" idx="2"/>
            <a:endCxn id="44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47" idx="2"/>
            <a:endCxn id="45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endCxn id="46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3" idx="2"/>
            <a:endCxn id="46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7" idx="3"/>
            <a:endCxn id="47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70" idx="2"/>
            <a:endCxn id="46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67" idx="2"/>
            <a:endCxn id="47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7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Clause Dec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58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endCxn id="48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83" idx="2"/>
            <a:endCxn id="48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9" idx="2"/>
            <a:endCxn id="484" idx="0"/>
          </p:cNvCxnSpPr>
          <p:nvPr/>
        </p:nvCxnSpPr>
        <p:spPr>
          <a:xfrm>
            <a:off x="6400440" y="32767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4" idx="2"/>
          </p:cNvCxnSpPr>
          <p:nvPr/>
        </p:nvCxnSpPr>
        <p:spPr>
          <a:xfrm>
            <a:off x="64004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30481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13720" y="249228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752480"/>
            <a:ext cx="48006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test for real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double radical = b*b - 4*a*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radical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e roots are real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Proceeding to next test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87" idx="2"/>
            <a:endCxn id="489" idx="0"/>
          </p:cNvCxnSpPr>
          <p:nvPr/>
        </p:nvCxnSpPr>
        <p:spPr>
          <a:xfrm flipV="1" rot="10800000">
            <a:off x="6400080" y="281916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87" idx="3"/>
          </p:cNvCxnSpPr>
          <p:nvPr/>
        </p:nvCxnSpPr>
        <p:spPr>
          <a:xfrm>
            <a:off x="6705360" y="2666520"/>
            <a:ext cx="686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/>
          <p:nvPr/>
        </p:nvCxnSpPr>
        <p:spPr>
          <a:xfrm flipH="1">
            <a:off x="6400440" y="3428640"/>
            <a:ext cx="99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endCxn id="499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2"/>
            <a:endCxn id="503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3" idx="2"/>
            <a:endCxn id="500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3" idx="3"/>
            <a:endCxn id="507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endCxn id="511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11" idx="2"/>
            <a:endCxn id="515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5" idx="2"/>
            <a:endCxn id="512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12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"/>
          <p:cNvCxnSpPr>
            <a:stCxn id="515" idx="3"/>
            <a:endCxn id="519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endCxn id="523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3" idx="2"/>
            <a:endCxn id="527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7" idx="2"/>
            <a:endCxn id="524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4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7" idx="3"/>
            <a:endCxn id="531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endCxn id="535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5" idx="2"/>
            <a:endCxn id="539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9" idx="2"/>
            <a:endCxn id="536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6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39" idx="3"/>
            <a:endCxn id="543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44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endCxn id="547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47" idx="2"/>
            <a:endCxn id="551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51" idx="2"/>
            <a:endCxn id="548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3" name=""/>
          <p:cNvCxnSpPr>
            <a:stCxn id="548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" name=""/>
          <p:cNvCxnSpPr>
            <a:stCxn id="551" idx="3"/>
            <a:endCxn id="555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endCxn id="559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9" idx="2"/>
            <a:endCxn id="563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3" idx="2"/>
            <a:endCxn id="560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0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7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endCxn id="571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71" idx="2"/>
            <a:endCxn id="575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75" idx="2"/>
            <a:endCxn id="572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72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5" idx="3"/>
            <a:endCxn id="579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8380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52280"/>
            <a:ext cx="990360" cy="3812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819520"/>
            <a:ext cx="8384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1600200"/>
            <a:ext cx="106668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733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Pa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K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ympathetic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3434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1814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H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914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i +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red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to gra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3" idx="2"/>
            <a:endCxn id="115" idx="0"/>
          </p:cNvCxnSpPr>
          <p:nvPr/>
        </p:nvCxnSpPr>
        <p:spPr>
          <a:xfrm>
            <a:off x="4000320" y="3352320"/>
            <a:ext cx="1080" cy="381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5" idx="2"/>
            <a:endCxn id="122" idx="0"/>
          </p:cNvCxnSpPr>
          <p:nvPr/>
        </p:nvCxnSpPr>
        <p:spPr>
          <a:xfrm>
            <a:off x="4000320" y="434340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3"/>
            <a:endCxn id="121" idx="1"/>
          </p:cNvCxnSpPr>
          <p:nvPr/>
        </p:nvCxnSpPr>
        <p:spPr>
          <a:xfrm>
            <a:off x="4571640" y="5029200"/>
            <a:ext cx="686520" cy="38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0"/>
            <a:endCxn id="116" idx="2"/>
          </p:cNvCxnSpPr>
          <p:nvPr/>
        </p:nvCxnSpPr>
        <p:spPr>
          <a:xfrm flipV="1">
            <a:off x="5676480" y="426672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172200" y="3962520"/>
            <a:ext cx="685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6" idx="0"/>
          </p:cNvCxnSpPr>
          <p:nvPr/>
        </p:nvCxnSpPr>
        <p:spPr>
          <a:xfrm flipH="1" flipV="1">
            <a:off x="5638320" y="2513880"/>
            <a:ext cx="38880" cy="1143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6019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6386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l 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Off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2"/>
            <a:endCxn id="129" idx="0"/>
          </p:cNvCxnSpPr>
          <p:nvPr/>
        </p:nvCxnSpPr>
        <p:spPr>
          <a:xfrm>
            <a:off x="7353000" y="426708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0" idx="3"/>
          </p:cNvCxnSpPr>
          <p:nvPr/>
        </p:nvCxnSpPr>
        <p:spPr>
          <a:xfrm rot="5400000">
            <a:off x="4476240" y="3447720"/>
            <a:ext cx="991080" cy="47631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0" idx="2"/>
            <a:endCxn id="135" idx="0"/>
          </p:cNvCxnSpPr>
          <p:nvPr/>
        </p:nvCxnSpPr>
        <p:spPr>
          <a:xfrm flipH="1" flipV="1" rot="5400000">
            <a:off x="-724320" y="3428640"/>
            <a:ext cx="5944320" cy="457920"/>
          </a:xfrm>
          <a:prstGeom prst="bentConnector5">
            <a:avLst>
              <a:gd name="adj1" fmla="val -2240"/>
              <a:gd name="adj2" fmla="val -297167"/>
              <a:gd name="adj3" fmla="val 103845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981080" y="685800"/>
            <a:ext cx="990720" cy="4572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1295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905120"/>
            <a:ext cx="838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7" idx="0"/>
          </p:cNvCxnSpPr>
          <p:nvPr/>
        </p:nvCxnSpPr>
        <p:spPr>
          <a:xfrm>
            <a:off x="3048120" y="1599840"/>
            <a:ext cx="953280" cy="3056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2"/>
          </p:cNvCxnSpPr>
          <p:nvPr/>
        </p:nvCxnSpPr>
        <p:spPr>
          <a:xfrm rot="5400000">
            <a:off x="1009080" y="2876400"/>
            <a:ext cx="243900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15" idx="1"/>
          </p:cNvCxnSpPr>
          <p:nvPr/>
        </p:nvCxnSpPr>
        <p:spPr>
          <a:xfrm flipH="1">
            <a:off x="1980720" y="4038120"/>
            <a:ext cx="14486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8" idx="2"/>
            <a:endCxn id="119" idx="0"/>
          </p:cNvCxnSpPr>
          <p:nvPr/>
        </p:nvCxnSpPr>
        <p:spPr>
          <a:xfrm>
            <a:off x="2018880" y="48769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9" idx="2"/>
            <a:endCxn id="130" idx="0"/>
          </p:cNvCxnSpPr>
          <p:nvPr/>
        </p:nvCxnSpPr>
        <p:spPr>
          <a:xfrm>
            <a:off x="2018880" y="5790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1" idx="1"/>
          </p:cNvCxnSpPr>
          <p:nvPr/>
        </p:nvCxnSpPr>
        <p:spPr>
          <a:xfrm rot="10800000">
            <a:off x="2818800" y="4037760"/>
            <a:ext cx="610200" cy="19058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2" idx="2"/>
            <a:endCxn id="131" idx="0"/>
          </p:cNvCxnSpPr>
          <p:nvPr/>
        </p:nvCxnSpPr>
        <p:spPr>
          <a:xfrm>
            <a:off x="4000320" y="53341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924680" y="6172200"/>
            <a:ext cx="9907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40 year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ortgages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ar lo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1" idx="3"/>
            <a:endCxn id="145" idx="0"/>
          </p:cNvCxnSpPr>
          <p:nvPr/>
        </p:nvCxnSpPr>
        <p:spPr>
          <a:xfrm>
            <a:off x="4571640" y="5943240"/>
            <a:ext cx="384876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13" idx="0"/>
          </p:cNvCxnSpPr>
          <p:nvPr/>
        </p:nvCxnSpPr>
        <p:spPr>
          <a:xfrm>
            <a:off x="4000320" y="228600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17" idx="0"/>
          </p:cNvCxnSpPr>
          <p:nvPr/>
        </p:nvCxnSpPr>
        <p:spPr>
          <a:xfrm flipV="1" rot="16200000">
            <a:off x="5123880" y="1427760"/>
            <a:ext cx="1143720" cy="331560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12" idx="2"/>
            <a:endCxn id="111" idx="0"/>
          </p:cNvCxnSpPr>
          <p:nvPr/>
        </p:nvCxnSpPr>
        <p:spPr>
          <a:xfrm>
            <a:off x="6972120" y="5335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11" idx="1"/>
            <a:endCxn id="120" idx="3"/>
          </p:cNvCxnSpPr>
          <p:nvPr/>
        </p:nvCxnSpPr>
        <p:spPr>
          <a:xfrm flipH="1">
            <a:off x="5790600" y="1142640"/>
            <a:ext cx="61020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7924680" y="2133720"/>
            <a:ext cx="914400" cy="3808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11" idx="3"/>
            <a:endCxn id="151" idx="0"/>
          </p:cNvCxnSpPr>
          <p:nvPr/>
        </p:nvCxnSpPr>
        <p:spPr>
          <a:xfrm>
            <a:off x="7543800" y="1143000"/>
            <a:ext cx="838800" cy="9914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20" idx="2"/>
            <a:endCxn id="114" idx="0"/>
          </p:cNvCxnSpPr>
          <p:nvPr/>
        </p:nvCxnSpPr>
        <p:spPr>
          <a:xfrm>
            <a:off x="5409720" y="1371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14" idx="2"/>
          </p:cNvCxnSpPr>
          <p:nvPr/>
        </p:nvCxnSpPr>
        <p:spPr>
          <a:xfrm>
            <a:off x="5409720" y="220932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14" idx="3"/>
          </p:cNvCxnSpPr>
          <p:nvPr/>
        </p:nvCxnSpPr>
        <p:spPr>
          <a:xfrm>
            <a:off x="5943240" y="1904760"/>
            <a:ext cx="610200" cy="20577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5" idx="2"/>
            <a:endCxn id="136" idx="0"/>
          </p:cNvCxnSpPr>
          <p:nvPr/>
        </p:nvCxnSpPr>
        <p:spPr>
          <a:xfrm>
            <a:off x="2476080" y="11426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146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715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19" idx="3"/>
          </p:cNvCxnSpPr>
          <p:nvPr/>
        </p:nvCxnSpPr>
        <p:spPr>
          <a:xfrm>
            <a:off x="2590560" y="5486040"/>
            <a:ext cx="229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30" idx="1"/>
          </p:cNvCxnSpPr>
          <p:nvPr/>
        </p:nvCxnSpPr>
        <p:spPr>
          <a:xfrm flipH="1" rot="10800000">
            <a:off x="1446840" y="4037760"/>
            <a:ext cx="533880" cy="2286720"/>
          </a:xfrm>
          <a:prstGeom prst="bentConnector4">
            <a:avLst>
              <a:gd name="adj1" fmla="val -42847"/>
              <a:gd name="adj2" fmla="val 10096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7543800" y="838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4267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733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5105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94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962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4800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5715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6775560" cy="4129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7264200">
            <a:off x="1360080" y="3241440"/>
            <a:ext cx="4805640" cy="1928880"/>
          </a:xfrm>
          <a:custGeom>
            <a:avLst/>
            <a:gdLst/>
            <a:ahLst/>
            <a:rect l="l" t="t" r="r" b="b"/>
            <a:pathLst>
              <a:path w="3027" h="1215">
                <a:moveTo>
                  <a:pt x="0" y="0"/>
                </a:moveTo>
                <a:lnTo>
                  <a:pt x="126" y="0"/>
                </a:lnTo>
                <a:lnTo>
                  <a:pt x="234" y="3"/>
                </a:lnTo>
                <a:lnTo>
                  <a:pt x="353" y="8"/>
                </a:lnTo>
                <a:lnTo>
                  <a:pt x="473" y="12"/>
                </a:lnTo>
                <a:lnTo>
                  <a:pt x="604" y="21"/>
                </a:lnTo>
                <a:lnTo>
                  <a:pt x="731" y="32"/>
                </a:lnTo>
                <a:lnTo>
                  <a:pt x="843" y="41"/>
                </a:lnTo>
                <a:lnTo>
                  <a:pt x="969" y="54"/>
                </a:lnTo>
                <a:lnTo>
                  <a:pt x="1082" y="68"/>
                </a:lnTo>
                <a:lnTo>
                  <a:pt x="1186" y="81"/>
                </a:lnTo>
                <a:lnTo>
                  <a:pt x="1307" y="99"/>
                </a:lnTo>
                <a:lnTo>
                  <a:pt x="1452" y="126"/>
                </a:lnTo>
                <a:lnTo>
                  <a:pt x="1578" y="149"/>
                </a:lnTo>
                <a:lnTo>
                  <a:pt x="1718" y="180"/>
                </a:lnTo>
                <a:lnTo>
                  <a:pt x="1863" y="216"/>
                </a:lnTo>
                <a:lnTo>
                  <a:pt x="1998" y="252"/>
                </a:lnTo>
                <a:lnTo>
                  <a:pt x="2106" y="288"/>
                </a:lnTo>
                <a:lnTo>
                  <a:pt x="2243" y="333"/>
                </a:lnTo>
                <a:lnTo>
                  <a:pt x="2355" y="378"/>
                </a:lnTo>
                <a:lnTo>
                  <a:pt x="2454" y="418"/>
                </a:lnTo>
                <a:lnTo>
                  <a:pt x="2535" y="463"/>
                </a:lnTo>
                <a:lnTo>
                  <a:pt x="2616" y="504"/>
                </a:lnTo>
                <a:lnTo>
                  <a:pt x="2680" y="544"/>
                </a:lnTo>
                <a:lnTo>
                  <a:pt x="2734" y="580"/>
                </a:lnTo>
                <a:lnTo>
                  <a:pt x="2793" y="626"/>
                </a:lnTo>
                <a:lnTo>
                  <a:pt x="2851" y="671"/>
                </a:lnTo>
                <a:lnTo>
                  <a:pt x="2896" y="716"/>
                </a:lnTo>
                <a:lnTo>
                  <a:pt x="2960" y="801"/>
                </a:lnTo>
                <a:lnTo>
                  <a:pt x="3000" y="874"/>
                </a:lnTo>
                <a:lnTo>
                  <a:pt x="3009" y="905"/>
                </a:lnTo>
                <a:lnTo>
                  <a:pt x="3027" y="967"/>
                </a:lnTo>
                <a:lnTo>
                  <a:pt x="3027" y="1017"/>
                </a:lnTo>
                <a:lnTo>
                  <a:pt x="3027" y="1215"/>
                </a:lnTo>
                <a:lnTo>
                  <a:pt x="2901" y="1120"/>
                </a:lnTo>
                <a:lnTo>
                  <a:pt x="2296" y="684"/>
                </a:lnTo>
                <a:lnTo>
                  <a:pt x="1420" y="454"/>
                </a:lnTo>
                <a:lnTo>
                  <a:pt x="516" y="333"/>
                </a:lnTo>
                <a:lnTo>
                  <a:pt x="0" y="306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7261800">
            <a:off x="1359000" y="3680280"/>
            <a:ext cx="4800600" cy="1484280"/>
          </a:xfrm>
          <a:custGeom>
            <a:avLst/>
            <a:gdLst/>
            <a:ahLst/>
            <a:rect l="l" t="t" r="r" b="b"/>
            <a:pathLst>
              <a:path w="3024" h="935">
                <a:moveTo>
                  <a:pt x="0" y="148"/>
                </a:moveTo>
                <a:lnTo>
                  <a:pt x="79" y="148"/>
                </a:lnTo>
                <a:lnTo>
                  <a:pt x="179" y="149"/>
                </a:lnTo>
                <a:lnTo>
                  <a:pt x="260" y="151"/>
                </a:lnTo>
                <a:lnTo>
                  <a:pt x="341" y="154"/>
                </a:lnTo>
                <a:lnTo>
                  <a:pt x="431" y="158"/>
                </a:lnTo>
                <a:lnTo>
                  <a:pt x="513" y="163"/>
                </a:lnTo>
                <a:lnTo>
                  <a:pt x="606" y="169"/>
                </a:lnTo>
                <a:lnTo>
                  <a:pt x="681" y="175"/>
                </a:lnTo>
                <a:lnTo>
                  <a:pt x="776" y="184"/>
                </a:lnTo>
                <a:lnTo>
                  <a:pt x="868" y="194"/>
                </a:lnTo>
                <a:lnTo>
                  <a:pt x="967" y="205"/>
                </a:lnTo>
                <a:lnTo>
                  <a:pt x="1050" y="217"/>
                </a:lnTo>
                <a:lnTo>
                  <a:pt x="1127" y="227"/>
                </a:lnTo>
                <a:lnTo>
                  <a:pt x="1214" y="240"/>
                </a:lnTo>
                <a:lnTo>
                  <a:pt x="1341" y="262"/>
                </a:lnTo>
                <a:lnTo>
                  <a:pt x="1456" y="286"/>
                </a:lnTo>
                <a:lnTo>
                  <a:pt x="1595" y="318"/>
                </a:lnTo>
                <a:lnTo>
                  <a:pt x="1685" y="342"/>
                </a:lnTo>
                <a:lnTo>
                  <a:pt x="1744" y="359"/>
                </a:lnTo>
                <a:lnTo>
                  <a:pt x="1857" y="393"/>
                </a:lnTo>
                <a:lnTo>
                  <a:pt x="1963" y="431"/>
                </a:lnTo>
                <a:lnTo>
                  <a:pt x="2042" y="461"/>
                </a:lnTo>
                <a:lnTo>
                  <a:pt x="2102" y="486"/>
                </a:lnTo>
                <a:lnTo>
                  <a:pt x="2169" y="518"/>
                </a:lnTo>
                <a:lnTo>
                  <a:pt x="2225" y="548"/>
                </a:lnTo>
                <a:lnTo>
                  <a:pt x="2272" y="575"/>
                </a:lnTo>
                <a:lnTo>
                  <a:pt x="2325" y="610"/>
                </a:lnTo>
                <a:lnTo>
                  <a:pt x="2371" y="643"/>
                </a:lnTo>
                <a:lnTo>
                  <a:pt x="2410" y="676"/>
                </a:lnTo>
                <a:lnTo>
                  <a:pt x="2445" y="706"/>
                </a:lnTo>
                <a:lnTo>
                  <a:pt x="2472" y="736"/>
                </a:lnTo>
                <a:lnTo>
                  <a:pt x="2493" y="763"/>
                </a:lnTo>
                <a:lnTo>
                  <a:pt x="2511" y="793"/>
                </a:lnTo>
                <a:lnTo>
                  <a:pt x="2526" y="820"/>
                </a:lnTo>
                <a:lnTo>
                  <a:pt x="2535" y="844"/>
                </a:lnTo>
                <a:lnTo>
                  <a:pt x="2546" y="876"/>
                </a:lnTo>
                <a:lnTo>
                  <a:pt x="2550" y="905"/>
                </a:lnTo>
                <a:lnTo>
                  <a:pt x="2552" y="935"/>
                </a:lnTo>
                <a:lnTo>
                  <a:pt x="3024" y="935"/>
                </a:lnTo>
                <a:lnTo>
                  <a:pt x="3020" y="887"/>
                </a:lnTo>
                <a:lnTo>
                  <a:pt x="3011" y="846"/>
                </a:lnTo>
                <a:lnTo>
                  <a:pt x="2999" y="811"/>
                </a:lnTo>
                <a:lnTo>
                  <a:pt x="2984" y="783"/>
                </a:lnTo>
                <a:lnTo>
                  <a:pt x="2967" y="753"/>
                </a:lnTo>
                <a:lnTo>
                  <a:pt x="2943" y="720"/>
                </a:lnTo>
                <a:lnTo>
                  <a:pt x="2922" y="694"/>
                </a:lnTo>
                <a:lnTo>
                  <a:pt x="2887" y="658"/>
                </a:lnTo>
                <a:lnTo>
                  <a:pt x="2853" y="626"/>
                </a:lnTo>
                <a:lnTo>
                  <a:pt x="2817" y="595"/>
                </a:lnTo>
                <a:lnTo>
                  <a:pt x="2774" y="563"/>
                </a:lnTo>
                <a:lnTo>
                  <a:pt x="2737" y="537"/>
                </a:lnTo>
                <a:lnTo>
                  <a:pt x="2675" y="500"/>
                </a:lnTo>
                <a:lnTo>
                  <a:pt x="2615" y="465"/>
                </a:lnTo>
                <a:lnTo>
                  <a:pt x="2525" y="422"/>
                </a:lnTo>
                <a:lnTo>
                  <a:pt x="2436" y="383"/>
                </a:lnTo>
                <a:lnTo>
                  <a:pt x="2346" y="347"/>
                </a:lnTo>
                <a:lnTo>
                  <a:pt x="2265" y="317"/>
                </a:lnTo>
                <a:lnTo>
                  <a:pt x="2151" y="279"/>
                </a:lnTo>
                <a:lnTo>
                  <a:pt x="2019" y="240"/>
                </a:lnTo>
                <a:lnTo>
                  <a:pt x="1888" y="208"/>
                </a:lnTo>
                <a:lnTo>
                  <a:pt x="1769" y="181"/>
                </a:lnTo>
                <a:lnTo>
                  <a:pt x="1688" y="163"/>
                </a:lnTo>
                <a:lnTo>
                  <a:pt x="1587" y="142"/>
                </a:lnTo>
                <a:lnTo>
                  <a:pt x="1514" y="128"/>
                </a:lnTo>
                <a:lnTo>
                  <a:pt x="1431" y="115"/>
                </a:lnTo>
                <a:lnTo>
                  <a:pt x="1347" y="101"/>
                </a:lnTo>
                <a:lnTo>
                  <a:pt x="1265" y="89"/>
                </a:lnTo>
                <a:lnTo>
                  <a:pt x="1157" y="74"/>
                </a:lnTo>
                <a:lnTo>
                  <a:pt x="1062" y="64"/>
                </a:lnTo>
                <a:lnTo>
                  <a:pt x="960" y="52"/>
                </a:lnTo>
                <a:lnTo>
                  <a:pt x="838" y="40"/>
                </a:lnTo>
                <a:lnTo>
                  <a:pt x="716" y="29"/>
                </a:lnTo>
                <a:lnTo>
                  <a:pt x="618" y="23"/>
                </a:lnTo>
                <a:lnTo>
                  <a:pt x="505" y="15"/>
                </a:lnTo>
                <a:lnTo>
                  <a:pt x="386" y="11"/>
                </a:lnTo>
                <a:lnTo>
                  <a:pt x="225" y="5"/>
                </a:lnTo>
                <a:lnTo>
                  <a:pt x="79" y="3"/>
                </a:lnTo>
                <a:lnTo>
                  <a:pt x="0" y="0"/>
                </a:lnTo>
                <a:lnTo>
                  <a:pt x="0" y="1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7263000">
            <a:off x="1608480" y="1743840"/>
            <a:ext cx="4806720" cy="1928520"/>
          </a:xfrm>
          <a:custGeom>
            <a:avLst/>
            <a:gdLst/>
            <a:ahLst/>
            <a:rect l="l" t="t" r="r" b="b"/>
            <a:pathLst>
              <a:path w="3028" h="1215">
                <a:moveTo>
                  <a:pt x="0" y="1215"/>
                </a:moveTo>
                <a:lnTo>
                  <a:pt x="126" y="1215"/>
                </a:lnTo>
                <a:lnTo>
                  <a:pt x="235" y="1212"/>
                </a:lnTo>
                <a:lnTo>
                  <a:pt x="354" y="1207"/>
                </a:lnTo>
                <a:lnTo>
                  <a:pt x="474" y="1203"/>
                </a:lnTo>
                <a:lnTo>
                  <a:pt x="605" y="1194"/>
                </a:lnTo>
                <a:lnTo>
                  <a:pt x="731" y="1183"/>
                </a:lnTo>
                <a:lnTo>
                  <a:pt x="843" y="1174"/>
                </a:lnTo>
                <a:lnTo>
                  <a:pt x="969" y="1161"/>
                </a:lnTo>
                <a:lnTo>
                  <a:pt x="1082" y="1147"/>
                </a:lnTo>
                <a:lnTo>
                  <a:pt x="1186" y="1134"/>
                </a:lnTo>
                <a:lnTo>
                  <a:pt x="1308" y="1116"/>
                </a:lnTo>
                <a:lnTo>
                  <a:pt x="1452" y="1089"/>
                </a:lnTo>
                <a:lnTo>
                  <a:pt x="1579" y="1066"/>
                </a:lnTo>
                <a:lnTo>
                  <a:pt x="1719" y="1035"/>
                </a:lnTo>
                <a:lnTo>
                  <a:pt x="1863" y="999"/>
                </a:lnTo>
                <a:lnTo>
                  <a:pt x="1999" y="963"/>
                </a:lnTo>
                <a:lnTo>
                  <a:pt x="2107" y="927"/>
                </a:lnTo>
                <a:lnTo>
                  <a:pt x="2243" y="882"/>
                </a:lnTo>
                <a:lnTo>
                  <a:pt x="2355" y="837"/>
                </a:lnTo>
                <a:lnTo>
                  <a:pt x="2454" y="797"/>
                </a:lnTo>
                <a:lnTo>
                  <a:pt x="2536" y="752"/>
                </a:lnTo>
                <a:lnTo>
                  <a:pt x="2617" y="711"/>
                </a:lnTo>
                <a:lnTo>
                  <a:pt x="2680" y="671"/>
                </a:lnTo>
                <a:lnTo>
                  <a:pt x="2734" y="635"/>
                </a:lnTo>
                <a:lnTo>
                  <a:pt x="2793" y="589"/>
                </a:lnTo>
                <a:lnTo>
                  <a:pt x="2852" y="544"/>
                </a:lnTo>
                <a:lnTo>
                  <a:pt x="2897" y="499"/>
                </a:lnTo>
                <a:lnTo>
                  <a:pt x="2960" y="414"/>
                </a:lnTo>
                <a:lnTo>
                  <a:pt x="3001" y="341"/>
                </a:lnTo>
                <a:lnTo>
                  <a:pt x="3010" y="310"/>
                </a:lnTo>
                <a:lnTo>
                  <a:pt x="3028" y="248"/>
                </a:lnTo>
                <a:lnTo>
                  <a:pt x="3028" y="198"/>
                </a:lnTo>
                <a:lnTo>
                  <a:pt x="3028" y="0"/>
                </a:lnTo>
                <a:lnTo>
                  <a:pt x="2901" y="95"/>
                </a:lnTo>
                <a:lnTo>
                  <a:pt x="2297" y="531"/>
                </a:lnTo>
                <a:lnTo>
                  <a:pt x="1421" y="761"/>
                </a:lnTo>
                <a:lnTo>
                  <a:pt x="516" y="882"/>
                </a:lnTo>
                <a:lnTo>
                  <a:pt x="0" y="909"/>
                </a:lnTo>
                <a:lnTo>
                  <a:pt x="0" y="121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7257000">
            <a:off x="4941720" y="1785600"/>
            <a:ext cx="1631880" cy="400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65120" y="137520"/>
            <a:ext cx="4956120" cy="6678360"/>
            <a:chOff x="2265120" y="137520"/>
            <a:chExt cx="4956120" cy="6678360"/>
          </a:xfrm>
        </p:grpSpPr>
        <p:sp>
          <p:nvSpPr>
            <p:cNvPr id="185" name=""/>
            <p:cNvSpPr/>
            <p:nvPr/>
          </p:nvSpPr>
          <p:spPr>
            <a:xfrm rot="7262400">
              <a:off x="3298680" y="4829760"/>
              <a:ext cx="227160" cy="1714680"/>
            </a:xfrm>
            <a:custGeom>
              <a:avLst/>
              <a:gdLst/>
              <a:ahLst/>
              <a:rect l="l" t="t" r="r" b="b"/>
              <a:pathLst>
                <a:path w="143" h="1080">
                  <a:moveTo>
                    <a:pt x="143" y="0"/>
                  </a:moveTo>
                  <a:lnTo>
                    <a:pt x="143" y="1080"/>
                  </a:lnTo>
                  <a:lnTo>
                    <a:pt x="0" y="792"/>
                  </a:lnTo>
                  <a:lnTo>
                    <a:pt x="0" y="28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262400">
              <a:off x="1361520" y="2619360"/>
              <a:ext cx="6762600" cy="1714680"/>
            </a:xfrm>
            <a:custGeom>
              <a:avLst/>
              <a:gdLst/>
              <a:ahLst/>
              <a:rect l="l" t="t" r="r" b="b"/>
              <a:pathLst>
                <a:path w="4260" h="1080">
                  <a:moveTo>
                    <a:pt x="3827" y="359"/>
                  </a:moveTo>
                  <a:lnTo>
                    <a:pt x="3827" y="0"/>
                  </a:lnTo>
                  <a:lnTo>
                    <a:pt x="4260" y="576"/>
                  </a:lnTo>
                  <a:lnTo>
                    <a:pt x="3827" y="1080"/>
                  </a:lnTo>
                  <a:lnTo>
                    <a:pt x="3827" y="720"/>
                  </a:lnTo>
                  <a:lnTo>
                    <a:pt x="0" y="720"/>
                  </a:lnTo>
                  <a:lnTo>
                    <a:pt x="0" y="359"/>
                  </a:lnTo>
                  <a:lnTo>
                    <a:pt x="3827" y="3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7260000">
            <a:off x="4936320" y="1409400"/>
            <a:ext cx="1630440" cy="376200"/>
          </a:xfrm>
          <a:custGeom>
            <a:avLst/>
            <a:gdLst/>
            <a:ahLst/>
            <a:rect l="l" t="t" r="r" b="b"/>
            <a:pathLst>
              <a:path w="1027" h="237">
                <a:moveTo>
                  <a:pt x="0" y="237"/>
                </a:moveTo>
                <a:lnTo>
                  <a:pt x="1027" y="237"/>
                </a:lnTo>
                <a:lnTo>
                  <a:pt x="513" y="0"/>
                </a:lnTo>
                <a:lnTo>
                  <a:pt x="0" y="2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7260600">
            <a:off x="1357200" y="1785240"/>
            <a:ext cx="4802040" cy="1484640"/>
          </a:xfrm>
          <a:custGeom>
            <a:avLst/>
            <a:gdLst/>
            <a:ahLst/>
            <a:rect l="l" t="t" r="r" b="b"/>
            <a:pathLst>
              <a:path w="3025" h="935">
                <a:moveTo>
                  <a:pt x="2" y="789"/>
                </a:moveTo>
                <a:lnTo>
                  <a:pt x="80" y="787"/>
                </a:lnTo>
                <a:lnTo>
                  <a:pt x="179" y="786"/>
                </a:lnTo>
                <a:lnTo>
                  <a:pt x="260" y="784"/>
                </a:lnTo>
                <a:lnTo>
                  <a:pt x="342" y="781"/>
                </a:lnTo>
                <a:lnTo>
                  <a:pt x="432" y="777"/>
                </a:lnTo>
                <a:lnTo>
                  <a:pt x="513" y="772"/>
                </a:lnTo>
                <a:lnTo>
                  <a:pt x="606" y="766"/>
                </a:lnTo>
                <a:lnTo>
                  <a:pt x="682" y="760"/>
                </a:lnTo>
                <a:lnTo>
                  <a:pt x="777" y="751"/>
                </a:lnTo>
                <a:lnTo>
                  <a:pt x="869" y="741"/>
                </a:lnTo>
                <a:lnTo>
                  <a:pt x="968" y="730"/>
                </a:lnTo>
                <a:lnTo>
                  <a:pt x="1051" y="718"/>
                </a:lnTo>
                <a:lnTo>
                  <a:pt x="1127" y="708"/>
                </a:lnTo>
                <a:lnTo>
                  <a:pt x="1215" y="695"/>
                </a:lnTo>
                <a:lnTo>
                  <a:pt x="1341" y="673"/>
                </a:lnTo>
                <a:lnTo>
                  <a:pt x="1457" y="649"/>
                </a:lnTo>
                <a:lnTo>
                  <a:pt x="1595" y="617"/>
                </a:lnTo>
                <a:lnTo>
                  <a:pt x="1686" y="593"/>
                </a:lnTo>
                <a:lnTo>
                  <a:pt x="1744" y="576"/>
                </a:lnTo>
                <a:lnTo>
                  <a:pt x="1857" y="542"/>
                </a:lnTo>
                <a:lnTo>
                  <a:pt x="1964" y="504"/>
                </a:lnTo>
                <a:lnTo>
                  <a:pt x="2042" y="474"/>
                </a:lnTo>
                <a:lnTo>
                  <a:pt x="2102" y="449"/>
                </a:lnTo>
                <a:lnTo>
                  <a:pt x="2170" y="417"/>
                </a:lnTo>
                <a:lnTo>
                  <a:pt x="2225" y="387"/>
                </a:lnTo>
                <a:lnTo>
                  <a:pt x="2272" y="360"/>
                </a:lnTo>
                <a:lnTo>
                  <a:pt x="2325" y="325"/>
                </a:lnTo>
                <a:lnTo>
                  <a:pt x="2372" y="292"/>
                </a:lnTo>
                <a:lnTo>
                  <a:pt x="2411" y="259"/>
                </a:lnTo>
                <a:lnTo>
                  <a:pt x="2445" y="229"/>
                </a:lnTo>
                <a:lnTo>
                  <a:pt x="2473" y="199"/>
                </a:lnTo>
                <a:lnTo>
                  <a:pt x="2494" y="172"/>
                </a:lnTo>
                <a:lnTo>
                  <a:pt x="2512" y="142"/>
                </a:lnTo>
                <a:lnTo>
                  <a:pt x="2527" y="115"/>
                </a:lnTo>
                <a:lnTo>
                  <a:pt x="2536" y="91"/>
                </a:lnTo>
                <a:lnTo>
                  <a:pt x="2546" y="59"/>
                </a:lnTo>
                <a:lnTo>
                  <a:pt x="2551" y="30"/>
                </a:lnTo>
                <a:lnTo>
                  <a:pt x="2552" y="0"/>
                </a:lnTo>
                <a:lnTo>
                  <a:pt x="3025" y="0"/>
                </a:lnTo>
                <a:lnTo>
                  <a:pt x="3020" y="48"/>
                </a:lnTo>
                <a:lnTo>
                  <a:pt x="3011" y="89"/>
                </a:lnTo>
                <a:lnTo>
                  <a:pt x="2999" y="124"/>
                </a:lnTo>
                <a:lnTo>
                  <a:pt x="2984" y="152"/>
                </a:lnTo>
                <a:lnTo>
                  <a:pt x="2968" y="182"/>
                </a:lnTo>
                <a:lnTo>
                  <a:pt x="2943" y="215"/>
                </a:lnTo>
                <a:lnTo>
                  <a:pt x="2922" y="241"/>
                </a:lnTo>
                <a:lnTo>
                  <a:pt x="2888" y="277"/>
                </a:lnTo>
                <a:lnTo>
                  <a:pt x="2853" y="309"/>
                </a:lnTo>
                <a:lnTo>
                  <a:pt x="2817" y="340"/>
                </a:lnTo>
                <a:lnTo>
                  <a:pt x="2775" y="372"/>
                </a:lnTo>
                <a:lnTo>
                  <a:pt x="2737" y="398"/>
                </a:lnTo>
                <a:lnTo>
                  <a:pt x="2676" y="435"/>
                </a:lnTo>
                <a:lnTo>
                  <a:pt x="2615" y="470"/>
                </a:lnTo>
                <a:lnTo>
                  <a:pt x="2525" y="513"/>
                </a:lnTo>
                <a:lnTo>
                  <a:pt x="2436" y="552"/>
                </a:lnTo>
                <a:lnTo>
                  <a:pt x="2346" y="588"/>
                </a:lnTo>
                <a:lnTo>
                  <a:pt x="2266" y="618"/>
                </a:lnTo>
                <a:lnTo>
                  <a:pt x="2152" y="656"/>
                </a:lnTo>
                <a:lnTo>
                  <a:pt x="2020" y="695"/>
                </a:lnTo>
                <a:lnTo>
                  <a:pt x="1889" y="727"/>
                </a:lnTo>
                <a:lnTo>
                  <a:pt x="1770" y="754"/>
                </a:lnTo>
                <a:lnTo>
                  <a:pt x="1689" y="772"/>
                </a:lnTo>
                <a:lnTo>
                  <a:pt x="1588" y="793"/>
                </a:lnTo>
                <a:lnTo>
                  <a:pt x="1514" y="807"/>
                </a:lnTo>
                <a:lnTo>
                  <a:pt x="1431" y="820"/>
                </a:lnTo>
                <a:lnTo>
                  <a:pt x="1347" y="834"/>
                </a:lnTo>
                <a:lnTo>
                  <a:pt x="1266" y="846"/>
                </a:lnTo>
                <a:lnTo>
                  <a:pt x="1158" y="861"/>
                </a:lnTo>
                <a:lnTo>
                  <a:pt x="1063" y="871"/>
                </a:lnTo>
                <a:lnTo>
                  <a:pt x="960" y="883"/>
                </a:lnTo>
                <a:lnTo>
                  <a:pt x="839" y="895"/>
                </a:lnTo>
                <a:lnTo>
                  <a:pt x="716" y="906"/>
                </a:lnTo>
                <a:lnTo>
                  <a:pt x="618" y="912"/>
                </a:lnTo>
                <a:lnTo>
                  <a:pt x="506" y="920"/>
                </a:lnTo>
                <a:lnTo>
                  <a:pt x="387" y="924"/>
                </a:lnTo>
                <a:lnTo>
                  <a:pt x="226" y="930"/>
                </a:lnTo>
                <a:lnTo>
                  <a:pt x="80" y="932"/>
                </a:lnTo>
                <a:lnTo>
                  <a:pt x="0" y="935"/>
                </a:lnTo>
                <a:lnTo>
                  <a:pt x="2" y="7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981080" y="1828800"/>
            <a:ext cx="5867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aghetti code</a:t>
            </a:r>
            <a:endParaRPr b="0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endCxn id="583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3" idx="2"/>
            <a:endCxn id="587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7" idx="2"/>
            <a:endCxn id="584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4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7" idx="3"/>
            <a:endCxn id="591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endCxn id="595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95" idx="2"/>
            <a:endCxn id="596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6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602" idx="2"/>
            <a:endCxn id="597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7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602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endCxn id="607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1" name=""/>
          <p:cNvCxnSpPr>
            <a:stCxn id="607" idx="2"/>
            <a:endCxn id="608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2" name=""/>
          <p:cNvCxnSpPr>
            <a:stCxn id="608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14" idx="2"/>
            <a:endCxn id="609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09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4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4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endCxn id="618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2"/>
            <a:endCxn id="619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19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25" idx="2"/>
            <a:endCxn id="620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20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stCxn id="625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28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endCxn id="632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2" idx="2"/>
            <a:endCxn id="633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33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39" idx="2"/>
            <a:endCxn id="634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34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stCxn id="639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42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endCxn id="643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43" idx="2"/>
            <a:endCxn id="644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4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5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50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2" name=""/>
          <p:cNvCxnSpPr>
            <a:stCxn id="650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53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3244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endCxn id="656" idx="0"/>
          </p:cNvCxnSpPr>
          <p:nvPr/>
        </p:nvCxnSpPr>
        <p:spPr>
          <a:xfrm>
            <a:off x="66290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6" idx="2"/>
          </p:cNvCxnSpPr>
          <p:nvPr/>
        </p:nvCxnSpPr>
        <p:spPr>
          <a:xfrm>
            <a:off x="66290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endCxn id="657" idx="0"/>
          </p:cNvCxnSpPr>
          <p:nvPr/>
        </p:nvCxnSpPr>
        <p:spPr>
          <a:xfrm>
            <a:off x="66290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1" name=""/>
          <p:cNvCxnSpPr>
            <a:stCxn id="657" idx="2"/>
          </p:cNvCxnSpPr>
          <p:nvPr/>
        </p:nvCxnSpPr>
        <p:spPr>
          <a:xfrm>
            <a:off x="66290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63244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866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38680" y="312408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62" idx="3"/>
            <a:endCxn id="663" idx="0"/>
          </p:cNvCxnSpPr>
          <p:nvPr/>
        </p:nvCxnSpPr>
        <p:spPr>
          <a:xfrm>
            <a:off x="69343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62" idx="1"/>
            <a:endCxn id="664" idx="0"/>
          </p:cNvCxnSpPr>
          <p:nvPr/>
        </p:nvCxnSpPr>
        <p:spPr>
          <a:xfrm flipV="1" rot="10800000">
            <a:off x="59428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64" idx="2"/>
            <a:endCxn id="657" idx="0"/>
          </p:cNvCxnSpPr>
          <p:nvPr/>
        </p:nvCxnSpPr>
        <p:spPr>
          <a:xfrm flipH="1" rot="16200000">
            <a:off x="60948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3" idx="2"/>
            <a:endCxn id="657" idx="0"/>
          </p:cNvCxnSpPr>
          <p:nvPr/>
        </p:nvCxnSpPr>
        <p:spPr>
          <a:xfrm rot="5400000">
            <a:off x="68191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56455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1726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3124080"/>
            <a:ext cx="533520" cy="381240"/>
          </a:xfrm>
          <a:custGeom>
            <a:avLst/>
            <a:gdLst>
              <a:gd name="textAreaLeft" fmla="*/ 66600 w 533520"/>
              <a:gd name="textAreaRight" fmla="*/ 466920 w 5335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81480" y="1905120"/>
            <a:ext cx="381240" cy="2819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"/>
          <p:cNvCxnSpPr>
            <a:endCxn id="674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8" name=""/>
          <p:cNvCxnSpPr>
            <a:stCxn id="674" idx="2"/>
            <a:endCxn id="675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5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81" idx="2"/>
            <a:endCxn id="676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6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1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endCxn id="685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5" idx="2"/>
            <a:endCxn id="686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6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92" idx="2"/>
            <a:endCxn id="687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3" name=""/>
          <p:cNvCxnSpPr>
            <a:stCxn id="687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2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44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244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0" name=""/>
          <p:cNvCxnSpPr>
            <a:endCxn id="698" idx="0"/>
          </p:cNvCxnSpPr>
          <p:nvPr/>
        </p:nvCxnSpPr>
        <p:spPr>
          <a:xfrm>
            <a:off x="66290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8" idx="2"/>
          </p:cNvCxnSpPr>
          <p:nvPr/>
        </p:nvCxnSpPr>
        <p:spPr>
          <a:xfrm>
            <a:off x="66290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endCxn id="699" idx="0"/>
          </p:cNvCxnSpPr>
          <p:nvPr/>
        </p:nvCxnSpPr>
        <p:spPr>
          <a:xfrm>
            <a:off x="66290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2"/>
          </p:cNvCxnSpPr>
          <p:nvPr/>
        </p:nvCxnSpPr>
        <p:spPr>
          <a:xfrm>
            <a:off x="66290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63244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866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38680" y="312408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705" idx="0"/>
          </p:cNvCxnSpPr>
          <p:nvPr/>
        </p:nvCxnSpPr>
        <p:spPr>
          <a:xfrm>
            <a:off x="69343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4" idx="1"/>
            <a:endCxn id="706" idx="0"/>
          </p:cNvCxnSpPr>
          <p:nvPr/>
        </p:nvCxnSpPr>
        <p:spPr>
          <a:xfrm flipV="1" rot="10800000">
            <a:off x="59428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6" idx="2"/>
            <a:endCxn id="699" idx="0"/>
          </p:cNvCxnSpPr>
          <p:nvPr/>
        </p:nvCxnSpPr>
        <p:spPr>
          <a:xfrm flipH="1" rot="16200000">
            <a:off x="60948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5" idx="2"/>
            <a:endCxn id="699" idx="0"/>
          </p:cNvCxnSpPr>
          <p:nvPr/>
        </p:nvCxnSpPr>
        <p:spPr>
          <a:xfrm rot="5400000">
            <a:off x="68191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56455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1726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0" y="3124080"/>
            <a:ext cx="533520" cy="381240"/>
          </a:xfrm>
          <a:custGeom>
            <a:avLst/>
            <a:gdLst>
              <a:gd name="textAreaLeft" fmla="*/ 66600 w 533520"/>
              <a:gd name="textAreaRight" fmla="*/ 466920 w 5335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81480" y="1905120"/>
            <a:ext cx="381240" cy="2819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905120" y="4191120"/>
            <a:ext cx="624816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ierarch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-Hierarchial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365760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7" idx="1"/>
            <a:endCxn id="719" idx="0"/>
          </p:cNvCxnSpPr>
          <p:nvPr/>
        </p:nvCxnSpPr>
        <p:spPr>
          <a:xfrm flipH="1" rot="10800000">
            <a:off x="3580920" y="2285280"/>
            <a:ext cx="991440" cy="1562760"/>
          </a:xfrm>
          <a:prstGeom prst="bentConnector4">
            <a:avLst>
              <a:gd name="adj1" fmla="val -23065"/>
              <a:gd name="adj2" fmla="val 114631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2597760" y="38098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7080" y="2286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67080" y="50292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endCxn id="719" idx="0"/>
          </p:cNvCxnSpPr>
          <p:nvPr/>
        </p:nvCxnSpPr>
        <p:spPr>
          <a:xfrm>
            <a:off x="4571640" y="2057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19" idx="2"/>
          </p:cNvCxnSpPr>
          <p:nvPr/>
        </p:nvCxnSpPr>
        <p:spPr>
          <a:xfrm>
            <a:off x="4571640" y="25142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21" idx="2"/>
          </p:cNvCxnSpPr>
          <p:nvPr/>
        </p:nvCxnSpPr>
        <p:spPr>
          <a:xfrm>
            <a:off x="4571640" y="5257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4267080" y="266688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29200" y="304812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1280" y="304812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5" idx="3"/>
            <a:endCxn id="726" idx="0"/>
          </p:cNvCxnSpPr>
          <p:nvPr/>
        </p:nvCxnSpPr>
        <p:spPr>
          <a:xfrm>
            <a:off x="4876920" y="281916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25" idx="1"/>
            <a:endCxn id="727" idx="0"/>
          </p:cNvCxnSpPr>
          <p:nvPr/>
        </p:nvCxnSpPr>
        <p:spPr>
          <a:xfrm flipV="1" rot="10800000">
            <a:off x="3885480" y="281844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3588120" y="25146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15240" y="25146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27" idx="2"/>
            <a:endCxn id="717" idx="0"/>
          </p:cNvCxnSpPr>
          <p:nvPr/>
        </p:nvCxnSpPr>
        <p:spPr>
          <a:xfrm>
            <a:off x="3885840" y="327672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3" name=""/>
          <p:cNvCxnSpPr/>
          <p:nvPr/>
        </p:nvCxnSpPr>
        <p:spPr>
          <a:xfrm rot="5400000">
            <a:off x="4075920" y="3771720"/>
            <a:ext cx="1753200" cy="762840"/>
          </a:xfrm>
          <a:prstGeom prst="bentConnector3">
            <a:avLst>
              <a:gd name="adj1" fmla="val 71452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17" idx="2"/>
          </p:cNvCxnSpPr>
          <p:nvPr/>
        </p:nvCxnSpPr>
        <p:spPr>
          <a:xfrm flipH="1" rot="16200000">
            <a:off x="3961440" y="3962160"/>
            <a:ext cx="534240" cy="68652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-Hierarchial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81280" y="365760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6" idx="1"/>
            <a:endCxn id="738" idx="0"/>
          </p:cNvCxnSpPr>
          <p:nvPr/>
        </p:nvCxnSpPr>
        <p:spPr>
          <a:xfrm flipH="1" rot="10800000">
            <a:off x="3580920" y="2285280"/>
            <a:ext cx="991440" cy="1562760"/>
          </a:xfrm>
          <a:prstGeom prst="bentConnector4">
            <a:avLst>
              <a:gd name="adj1" fmla="val -23065"/>
              <a:gd name="adj2" fmla="val 114631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597760" y="38098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7080" y="2286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50292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endCxn id="738" idx="0"/>
          </p:cNvCxnSpPr>
          <p:nvPr/>
        </p:nvCxnSpPr>
        <p:spPr>
          <a:xfrm>
            <a:off x="4571640" y="2057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8" idx="2"/>
          </p:cNvCxnSpPr>
          <p:nvPr/>
        </p:nvCxnSpPr>
        <p:spPr>
          <a:xfrm>
            <a:off x="4571640" y="25142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40" idx="2"/>
          </p:cNvCxnSpPr>
          <p:nvPr/>
        </p:nvCxnSpPr>
        <p:spPr>
          <a:xfrm>
            <a:off x="4571640" y="5257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4267080" y="266688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04812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304812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4" idx="3"/>
            <a:endCxn id="745" idx="0"/>
          </p:cNvCxnSpPr>
          <p:nvPr/>
        </p:nvCxnSpPr>
        <p:spPr>
          <a:xfrm>
            <a:off x="4876920" y="281916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8" name=""/>
          <p:cNvCxnSpPr>
            <a:stCxn id="744" idx="1"/>
            <a:endCxn id="746" idx="0"/>
          </p:cNvCxnSpPr>
          <p:nvPr/>
        </p:nvCxnSpPr>
        <p:spPr>
          <a:xfrm flipV="1" rot="10800000">
            <a:off x="3885480" y="281844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3588120" y="25146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5240" y="25146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stCxn id="746" idx="2"/>
            <a:endCxn id="736" idx="0"/>
          </p:cNvCxnSpPr>
          <p:nvPr/>
        </p:nvCxnSpPr>
        <p:spPr>
          <a:xfrm>
            <a:off x="3885840" y="327672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2" name=""/>
          <p:cNvCxnSpPr/>
          <p:nvPr/>
        </p:nvCxnSpPr>
        <p:spPr>
          <a:xfrm rot="5400000">
            <a:off x="4075920" y="3771720"/>
            <a:ext cx="1753200" cy="762840"/>
          </a:xfrm>
          <a:prstGeom prst="bentConnector3">
            <a:avLst>
              <a:gd name="adj1" fmla="val 71452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36" idx="2"/>
          </p:cNvCxnSpPr>
          <p:nvPr/>
        </p:nvCxnSpPr>
        <p:spPr>
          <a:xfrm flipH="1" rot="16200000">
            <a:off x="3961440" y="3962160"/>
            <a:ext cx="534240" cy="68652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754" name=""/>
          <p:cNvSpPr txBox="1"/>
          <p:nvPr/>
        </p:nvSpPr>
        <p:spPr>
          <a:xfrm>
            <a:off x="3276720" y="2133720"/>
            <a:ext cx="2081160" cy="23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Comic Sans MS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"/>
          <p:cNvGraphicFramePr/>
          <p:nvPr/>
        </p:nvGraphicFramePr>
        <p:xfrm>
          <a:off x="0" y="1123920"/>
          <a:ext cx="8926560" cy="45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89265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jke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0574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438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28195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2004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endCxn id="192" idx="0"/>
          </p:cNvCxnSpPr>
          <p:nvPr/>
        </p:nvCxnSpPr>
        <p:spPr>
          <a:xfrm>
            <a:off x="5562360" y="18284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2"/>
            <a:endCxn id="193" idx="0"/>
          </p:cNvCxnSpPr>
          <p:nvPr/>
        </p:nvCxnSpPr>
        <p:spPr>
          <a:xfrm>
            <a:off x="55623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3" idx="2"/>
            <a:endCxn id="194" idx="0"/>
          </p:cNvCxnSpPr>
          <p:nvPr/>
        </p:nvCxnSpPr>
        <p:spPr>
          <a:xfrm>
            <a:off x="55623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4" idx="2"/>
            <a:endCxn id="195" idx="0"/>
          </p:cNvCxnSpPr>
          <p:nvPr/>
        </p:nvCxnSpPr>
        <p:spPr>
          <a:xfrm>
            <a:off x="55623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5" idx="2"/>
          </p:cNvCxnSpPr>
          <p:nvPr/>
        </p:nvCxnSpPr>
        <p:spPr>
          <a:xfrm>
            <a:off x="556236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jk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5909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9625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endCxn id="203" idx="0"/>
          </p:cNvCxnSpPr>
          <p:nvPr/>
        </p:nvCxnSpPr>
        <p:spPr>
          <a:xfrm>
            <a:off x="5562360" y="2361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3" idx="2"/>
          </p:cNvCxnSpPr>
          <p:nvPr/>
        </p:nvCxnSpPr>
        <p:spPr>
          <a:xfrm>
            <a:off x="5562360" y="28191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endCxn id="204" idx="0"/>
          </p:cNvCxnSpPr>
          <p:nvPr/>
        </p:nvCxnSpPr>
        <p:spPr>
          <a:xfrm>
            <a:off x="5562360" y="38098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4" idx="2"/>
          </p:cNvCxnSpPr>
          <p:nvPr/>
        </p:nvCxnSpPr>
        <p:spPr>
          <a:xfrm>
            <a:off x="5562360" y="41911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5257800" y="2971800"/>
            <a:ext cx="60948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33526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352680"/>
            <a:ext cx="60948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09" idx="3"/>
            <a:endCxn id="210" idx="0"/>
          </p:cNvCxnSpPr>
          <p:nvPr/>
        </p:nvCxnSpPr>
        <p:spPr>
          <a:xfrm>
            <a:off x="5867280" y="31237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1"/>
            <a:endCxn id="211" idx="0"/>
          </p:cNvCxnSpPr>
          <p:nvPr/>
        </p:nvCxnSpPr>
        <p:spPr>
          <a:xfrm flipV="1" rot="10800000">
            <a:off x="4876200" y="31230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1" idx="2"/>
            <a:endCxn id="204" idx="0"/>
          </p:cNvCxnSpPr>
          <p:nvPr/>
        </p:nvCxnSpPr>
        <p:spPr>
          <a:xfrm flipH="1" rot="16200000">
            <a:off x="5028120" y="34286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0" idx="2"/>
            <a:endCxn id="204" idx="0"/>
          </p:cNvCxnSpPr>
          <p:nvPr/>
        </p:nvCxnSpPr>
        <p:spPr>
          <a:xfrm rot="5400000">
            <a:off x="5752440" y="3390840"/>
            <a:ext cx="38196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457884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05600" y="28195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jke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7432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3429000"/>
            <a:ext cx="60948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4648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endCxn id="219" idx="0"/>
          </p:cNvCxnSpPr>
          <p:nvPr/>
        </p:nvCxnSpPr>
        <p:spPr>
          <a:xfrm>
            <a:off x="5638320" y="2514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9" idx="2"/>
            <a:endCxn id="220" idx="0"/>
          </p:cNvCxnSpPr>
          <p:nvPr/>
        </p:nvCxnSpPr>
        <p:spPr>
          <a:xfrm>
            <a:off x="5638320" y="2971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0" idx="2"/>
          </p:cNvCxnSpPr>
          <p:nvPr/>
        </p:nvCxnSpPr>
        <p:spPr>
          <a:xfrm>
            <a:off x="5638320" y="365724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6" idx="2"/>
            <a:endCxn id="221" idx="0"/>
          </p:cNvCxnSpPr>
          <p:nvPr/>
        </p:nvCxnSpPr>
        <p:spPr>
          <a:xfrm>
            <a:off x="5638320" y="434304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1" idx="2"/>
          </p:cNvCxnSpPr>
          <p:nvPr/>
        </p:nvCxnSpPr>
        <p:spPr>
          <a:xfrm>
            <a:off x="5638320" y="48769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5334120" y="396252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3"/>
          </p:cNvCxnSpPr>
          <p:nvPr/>
        </p:nvCxnSpPr>
        <p:spPr>
          <a:xfrm flipH="1" flipV="1">
            <a:off x="5637960" y="3123720"/>
            <a:ext cx="305640" cy="1029600"/>
          </a:xfrm>
          <a:prstGeom prst="bentConnector4">
            <a:avLst>
              <a:gd name="adj1" fmla="val -225000"/>
              <a:gd name="adj2" fmla="val 98146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endCxn id="231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1" idx="2"/>
            <a:endCxn id="232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2" idx="2"/>
            <a:endCxn id="233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endCxn id="242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3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44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4" idx="2"/>
            <a:endCxn id="245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5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endCxn id="253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3" idx="2"/>
            <a:endCxn id="254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4" idx="2"/>
            <a:endCxn id="255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5" idx="2"/>
            <a:endCxn id="256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6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0T14:12:05Z</dcterms:created>
  <dc:creator>Michael Bruce-Lockhart</dc:creator>
  <dc:description/>
  <dc:language>en-US</dc:language>
  <cp:lastModifiedBy>Michael Bruce-Lockhart</cp:lastModifiedBy>
  <dcterms:modified xsi:type="dcterms:W3CDTF">2006-01-26T10:31:50Z</dcterms:modified>
  <cp:revision>16</cp:revision>
  <dc:subject/>
  <dc:title>No Slide Title</dc:title>
</cp:coreProperties>
</file>